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4320" y="3690720"/>
            <a:ext cx="8296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4320" y="4370040"/>
            <a:ext cx="8296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4320" y="369072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5200" y="369072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44320" y="437004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795200" y="437004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4320" y="3690720"/>
            <a:ext cx="2671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49440" y="3690720"/>
            <a:ext cx="2671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54560" y="3690720"/>
            <a:ext cx="2671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44320" y="4370040"/>
            <a:ext cx="2671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49440" y="4370040"/>
            <a:ext cx="2671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154560" y="4370040"/>
            <a:ext cx="2671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44320" y="3690720"/>
            <a:ext cx="82962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4320" y="3690720"/>
            <a:ext cx="829620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4320" y="3690720"/>
            <a:ext cx="404820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5200" y="3690720"/>
            <a:ext cx="404820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45760" y="2971800"/>
            <a:ext cx="8294760" cy="329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algn="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44320" y="369072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5200" y="3690720"/>
            <a:ext cx="404820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4320" y="437004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544320" y="3690720"/>
            <a:ext cx="82962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44320" y="3690720"/>
            <a:ext cx="404820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95200" y="369072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95200" y="437004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44320" y="369072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95200" y="369072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44320" y="4370040"/>
            <a:ext cx="8296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4320" y="3690720"/>
            <a:ext cx="8296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4320" y="4370040"/>
            <a:ext cx="8296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4320" y="369072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5200" y="369072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44320" y="437004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95200" y="437004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4320" y="3690720"/>
            <a:ext cx="2671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49440" y="3690720"/>
            <a:ext cx="2671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54560" y="3690720"/>
            <a:ext cx="2671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44320" y="4370040"/>
            <a:ext cx="2671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49440" y="4370040"/>
            <a:ext cx="2671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154560" y="4370040"/>
            <a:ext cx="2671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4320" y="3690720"/>
            <a:ext cx="829620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4320" y="3690720"/>
            <a:ext cx="404820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5200" y="3690720"/>
            <a:ext cx="404820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545760" y="2971800"/>
            <a:ext cx="8294760" cy="329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algn="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44320" y="369072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5200" y="3690720"/>
            <a:ext cx="404820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4320" y="437004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44320" y="3690720"/>
            <a:ext cx="404820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95200" y="369072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795200" y="437004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4320" y="369072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95200" y="3690720"/>
            <a:ext cx="4048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44320" y="4370040"/>
            <a:ext cx="8296200" cy="6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6520" indent="-22860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479600" indent="-22860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822320" indent="-22860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82232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82232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" name="RUC_Logo%20copy" descr=""/>
          <p:cNvPicPr/>
          <p:nvPr/>
        </p:nvPicPr>
        <p:blipFill>
          <a:blip r:embed="rId2"/>
          <a:srcRect l="0" t="0" r="0" b="77066"/>
          <a:stretch/>
        </p:blipFill>
        <p:spPr>
          <a:xfrm>
            <a:off x="0" y="6442200"/>
            <a:ext cx="1562040" cy="415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flipH="1">
            <a:off x="1609200" y="6777000"/>
            <a:ext cx="7410600" cy="0"/>
          </a:xfrm>
          <a:prstGeom prst="line">
            <a:avLst/>
          </a:prstGeom>
          <a:ln cap="rnd" w="12708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969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-2446200" y="949320"/>
            <a:ext cx="2198520" cy="1422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46800" bIns="13716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lor Palet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652760" y="1319040"/>
            <a:ext cx="613080" cy="338400"/>
          </a:xfrm>
          <a:prstGeom prst="rect">
            <a:avLst/>
          </a:prstGeom>
          <a:solidFill>
            <a:srgbClr val="0179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988920" y="1319040"/>
            <a:ext cx="612720" cy="338400"/>
          </a:xfrm>
          <a:prstGeom prst="rect">
            <a:avLst/>
          </a:prstGeom>
          <a:solidFill>
            <a:srgbClr val="7e0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2309760" y="1720800"/>
            <a:ext cx="612720" cy="339840"/>
          </a:xfrm>
          <a:prstGeom prst="rect">
            <a:avLst/>
          </a:prstGeom>
          <a:solidFill>
            <a:srgbClr val="ae59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1652760" y="1720800"/>
            <a:ext cx="613080" cy="3398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988920" y="1720800"/>
            <a:ext cx="612720" cy="339840"/>
          </a:xfrm>
          <a:prstGeom prst="rect">
            <a:avLst/>
          </a:prstGeom>
          <a:solidFill>
            <a:srgbClr val="5f6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2309760" y="2112840"/>
            <a:ext cx="1931760" cy="189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2309760" y="1319040"/>
            <a:ext cx="612720" cy="338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-3157560" y="78480"/>
            <a:ext cx="2895480" cy="84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9800" rIns="0" tIns="54720" bIns="54720" anchor="ctr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o use or remov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hese color palettes, go to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View/Master/Slide Ma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3025800" y="5867280"/>
            <a:ext cx="2895480" cy="60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9800" rIns="0" tIns="54720" bIns="54720" anchor="ctr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ptional logo for you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tes/handouts sli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2c_TM_smUse" descr=""/>
          <p:cNvPicPr/>
          <p:nvPr/>
        </p:nvPicPr>
        <p:blipFill>
          <a:blip r:embed="rId3"/>
          <a:stretch/>
        </p:blipFill>
        <p:spPr>
          <a:xfrm>
            <a:off x="-1940040" y="6486480"/>
            <a:ext cx="1600200" cy="36504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 rot="16200000">
            <a:off x="-4050720" y="4177440"/>
            <a:ext cx="3312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 Black"/>
              </a:rPr>
              <a:t>APPLYING THESE COL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4"/>
          <a:srcRect l="28890" t="31120" r="59574" b="56295"/>
          <a:stretch/>
        </p:blipFill>
        <p:spPr>
          <a:xfrm>
            <a:off x="-2098800" y="2827440"/>
            <a:ext cx="882720" cy="619200"/>
          </a:xfrm>
          <a:prstGeom prst="rect">
            <a:avLst/>
          </a:prstGeom>
          <a:ln w="0">
            <a:noFill/>
          </a:ln>
        </p:spPr>
      </p:pic>
      <p:sp>
        <p:nvSpPr>
          <p:cNvPr id="18" name=""/>
          <p:cNvSpPr/>
          <p:nvPr/>
        </p:nvSpPr>
        <p:spPr>
          <a:xfrm>
            <a:off x="-2281320" y="2262240"/>
            <a:ext cx="449280" cy="398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 Narrow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-2281320" y="3382920"/>
            <a:ext cx="449280" cy="398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 Narrow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-2281320" y="4311720"/>
            <a:ext cx="449280" cy="398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Arial Narrow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-2209680" y="2553480"/>
            <a:ext cx="2209680" cy="30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9800" rIns="0" tIns="54720" bIns="5472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Click on the desired co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-2209680" y="3652560"/>
            <a:ext cx="1904760" cy="6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9800" rIns="0" tIns="54720" bIns="5472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Click on the paintbrush tool located on your toolb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-2209680" y="4606560"/>
            <a:ext cx="1981080" cy="49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9800" rIns="0" tIns="54720" bIns="5472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Click on the object you want to color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-2181240" y="5053320"/>
            <a:ext cx="2195640" cy="87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9800" rIns="0" tIns="54720" bIns="5472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Helpful tip: Double click the paintbrush tool to apply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lor to more than on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bject at a tim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" name="" descr=""/>
          <p:cNvPicPr/>
          <p:nvPr/>
        </p:nvPicPr>
        <p:blipFill>
          <a:blip r:embed="rId5"/>
          <a:srcRect l="22397" t="16065" r="75005" b="80449"/>
          <a:stretch/>
        </p:blipFill>
        <p:spPr>
          <a:xfrm>
            <a:off x="-1511280" y="4172040"/>
            <a:ext cx="320760" cy="27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2895480"/>
            <a:ext cx="2057400" cy="35816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RUC_Logo%20copy" descr=""/>
          <p:cNvPicPr/>
          <p:nvPr/>
        </p:nvPicPr>
        <p:blipFill>
          <a:blip r:embed="rId2"/>
          <a:stretch/>
        </p:blipFill>
        <p:spPr>
          <a:xfrm>
            <a:off x="557280" y="523800"/>
            <a:ext cx="2055600" cy="2371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5" name=""/>
          <p:cNvSpPr/>
          <p:nvPr/>
        </p:nvSpPr>
        <p:spPr>
          <a:xfrm>
            <a:off x="588960" y="2928960"/>
            <a:ext cx="8231040" cy="745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2800" y="6423840"/>
            <a:ext cx="2090880" cy="265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b2b2b2"/>
                </a:solidFill>
                <a:latin typeface="Arial Narrow"/>
              </a:rPr>
              <a:t>©1998, 1999, 2000 Rational Software - All rights reserved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604836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ession CCM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Arial Narrow"/>
            </a:endParaRPr>
          </a:p>
          <a:p>
            <a:pPr lvl="1" marL="571680" indent="0"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71640" indent="3240" algn="ctr">
              <a:spcBef>
                <a:spcPts val="499"/>
              </a:spcBef>
              <a:buClr>
                <a:srgbClr val="0000cc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251000" algn="ctr">
              <a:spcBef>
                <a:spcPts val="499"/>
              </a:spcBef>
              <a:buClr>
                <a:srgbClr val="0000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593720" algn="ctr">
              <a:spcBef>
                <a:spcPts val="499"/>
              </a:spcBef>
              <a:buClr>
                <a:srgbClr val="0000cc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59372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59372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971800"/>
            <a:ext cx="861048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 Narrow"/>
              </a:rPr>
              <a:t>ClearCase Branching and Labeling</a:t>
            </a:r>
            <a:br>
              <a:rPr sz="3400"/>
            </a:br>
            <a:r>
              <a:rPr b="1" lang="en-US" sz="3400" spc="-1" strike="noStrike">
                <a:solidFill>
                  <a:srgbClr val="ffcc00"/>
                </a:solidFill>
                <a:latin typeface="Arial Narrow"/>
              </a:rPr>
              <a:t>Best Practices for Parallel Development</a:t>
            </a:r>
            <a:endParaRPr b="1" lang="en-US" sz="3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44320" y="4522680"/>
            <a:ext cx="8296200" cy="130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indent="0" algn="r">
              <a:lnSpc>
                <a:spcPct val="7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Narrow"/>
              </a:rPr>
              <a:t>Brad Appleton</a:t>
            </a:r>
            <a:endParaRPr b="0" lang="en-US" sz="3200" spc="-1" strike="noStrike">
              <a:solidFill>
                <a:srgbClr val="ffcc00"/>
              </a:solidFill>
              <a:latin typeface="Arial Narrow"/>
            </a:endParaRPr>
          </a:p>
          <a:p>
            <a:pPr indent="0" algn="r">
              <a:lnSpc>
                <a:spcPct val="7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Narrow"/>
              </a:rPr>
              <a:t>Motorola Network Solutions</a:t>
            </a:r>
            <a:endParaRPr b="0" lang="en-US" sz="3200" spc="-1" strike="noStrike">
              <a:solidFill>
                <a:srgbClr val="ffcc00"/>
              </a:solidFill>
              <a:latin typeface="Arial Narrow"/>
            </a:endParaRPr>
          </a:p>
          <a:p>
            <a:pPr indent="0" algn="r">
              <a:lnSpc>
                <a:spcPct val="5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3657600"/>
            <a:ext cx="184320" cy="458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Narrow"/>
              </a:rPr>
              <a:t>ClearCase branching and labeling</a:t>
            </a:r>
            <a:endParaRPr b="1" lang="en-US" sz="4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44320" y="3690720"/>
            <a:ext cx="82962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indent="0" algn="r">
              <a:lnSpc>
                <a:spcPct val="87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Narrow"/>
              </a:rPr>
              <a:t>Recurringly successful “best practices”</a:t>
            </a:r>
            <a:endParaRPr b="0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ClearCase branching &amp; labeling “best practices”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533160"/>
            <a:ext cx="472428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ivate development bran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hared development bran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arly vs lazy branch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ush vs pull integr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hared integration bran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ull-push integration-task bran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ush-pull “docking” bran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gration loc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artial integration loc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19360" y="533160"/>
            <a:ext cx="471492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8000"/>
          </a:bodyPr>
          <a:p>
            <a:pPr marL="338760" indent="-33876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base before merge-bac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8760" indent="-33876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heckpoint after merge-bac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8760" indent="-33876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heckpoint before re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8760" indent="-33876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served” re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8760" indent="-33876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loating lab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8760" indent="-33876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e-build vs post-build label/checkpoi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8760" indent="-33876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mulated “-mklabel rule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8760" indent="-33876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seline promotion via label attribu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8760" indent="-33876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seline promotion via label renam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Private development branch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ranch-type created per development change/activity (just like a “private branch” with a “view profile” on N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ranch-access restricted exclusively to the developer responsible for implementing the fix or featur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eckout/checkin as desired on the “private branch” (automatically grouping together all modifications made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ther developers insulated from seeing changes until the branch is “merged back” to integration branc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ranch “lock down” when change/activity is complet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Private development branch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95640" y="1119240"/>
            <a:ext cx="1752480" cy="1738440"/>
            <a:chOff x="2195640" y="1119240"/>
            <a:chExt cx="1752480" cy="1738440"/>
          </a:xfrm>
        </p:grpSpPr>
        <p:sp>
          <p:nvSpPr>
            <p:cNvPr id="133" name=""/>
            <p:cNvSpPr/>
            <p:nvPr/>
          </p:nvSpPr>
          <p:spPr>
            <a:xfrm>
              <a:off x="3105000" y="1905120"/>
              <a:ext cx="0" cy="60948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95640" y="1119240"/>
              <a:ext cx="1752480" cy="76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 Narrow"/>
                </a:rPr>
                <a:t>integration bran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09880" y="2476440"/>
              <a:ext cx="380880" cy="38124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229920" y="5214960"/>
            <a:ext cx="3313440" cy="555120"/>
            <a:chOff x="3229920" y="5214960"/>
            <a:chExt cx="3313440" cy="555120"/>
          </a:xfrm>
        </p:grpSpPr>
        <p:cxnSp>
          <p:nvCxnSpPr>
            <p:cNvPr id="137" name=""/>
            <p:cNvCxnSpPr>
              <a:stCxn id="138" idx="4"/>
              <a:endCxn id="139" idx="5"/>
            </p:cNvCxnSpPr>
            <p:nvPr/>
          </p:nvCxnSpPr>
          <p:spPr>
            <a:xfrm rot="5400000">
              <a:off x="4750200" y="3694680"/>
              <a:ext cx="273240" cy="3313800"/>
            </a:xfrm>
            <a:prstGeom prst="curvedConnector5">
              <a:avLst>
                <a:gd name="adj1" fmla="val 197229"/>
                <a:gd name="adj2" fmla="val 50000"/>
                <a:gd name="adj3" fmla="val 197229"/>
              </a:avLst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40" name=""/>
            <p:cNvSpPr/>
            <p:nvPr/>
          </p:nvSpPr>
          <p:spPr>
            <a:xfrm>
              <a:off x="3657600" y="5257800"/>
              <a:ext cx="236232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 Narrow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 Narrow"/>
                </a:rPr>
                <a:t>merge bac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305160" y="2638440"/>
            <a:ext cx="4133880" cy="1055520"/>
            <a:chOff x="3305160" y="2638440"/>
            <a:chExt cx="4133880" cy="1055520"/>
          </a:xfrm>
        </p:grpSpPr>
        <p:sp>
          <p:nvSpPr>
            <p:cNvPr id="142" name=""/>
            <p:cNvSpPr/>
            <p:nvPr/>
          </p:nvSpPr>
          <p:spPr>
            <a:xfrm>
              <a:off x="3305160" y="2638440"/>
              <a:ext cx="3319560" cy="64296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57760" y="3267000"/>
              <a:ext cx="1781280" cy="4269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 Narrow"/>
                </a:rPr>
                <a:t>private bran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086600" y="3962520"/>
            <a:ext cx="1295280" cy="1238400"/>
            <a:chOff x="7086600" y="3962520"/>
            <a:chExt cx="1295280" cy="1238400"/>
          </a:xfrm>
        </p:grpSpPr>
        <p:grpSp>
          <p:nvGrpSpPr>
            <p:cNvPr id="145" name=""/>
            <p:cNvGrpSpPr/>
            <p:nvPr/>
          </p:nvGrpSpPr>
          <p:grpSpPr>
            <a:xfrm>
              <a:off x="7448400" y="3962520"/>
              <a:ext cx="761760" cy="819000"/>
              <a:chOff x="7448400" y="3962520"/>
              <a:chExt cx="761760" cy="819000"/>
            </a:xfrm>
          </p:grpSpPr>
          <p:sp>
            <p:nvSpPr>
              <p:cNvPr id="146" name=""/>
              <p:cNvSpPr/>
              <p:nvPr/>
            </p:nvSpPr>
            <p:spPr>
              <a:xfrm>
                <a:off x="7448400" y="4324320"/>
                <a:ext cx="761760" cy="457200"/>
              </a:xfrm>
              <a:prstGeom prst="parallelogram">
                <a:avLst>
                  <a:gd name="adj" fmla="val 41654"/>
                </a:avLst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52960" y="3962520"/>
                <a:ext cx="381240" cy="304560"/>
              </a:xfrm>
              <a:prstGeom prst="ellipse">
                <a:avLst/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7086600" y="4743360"/>
              <a:ext cx="1295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 Narrow"/>
                </a:rPr>
                <a:t>Develop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905200" y="2838600"/>
            <a:ext cx="380880" cy="2685960"/>
            <a:chOff x="2905200" y="2838600"/>
            <a:chExt cx="380880" cy="2685960"/>
          </a:xfrm>
        </p:grpSpPr>
        <p:sp>
          <p:nvSpPr>
            <p:cNvPr id="139" name=""/>
            <p:cNvSpPr/>
            <p:nvPr/>
          </p:nvSpPr>
          <p:spPr>
            <a:xfrm>
              <a:off x="2905200" y="5143680"/>
              <a:ext cx="38088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05000" y="2838600"/>
              <a:ext cx="0" cy="228600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348240" y="3753000"/>
            <a:ext cx="385920" cy="1442880"/>
            <a:chOff x="6348240" y="3753000"/>
            <a:chExt cx="385920" cy="1442880"/>
          </a:xfrm>
        </p:grpSpPr>
        <p:grpSp>
          <p:nvGrpSpPr>
            <p:cNvPr id="152" name=""/>
            <p:cNvGrpSpPr/>
            <p:nvPr/>
          </p:nvGrpSpPr>
          <p:grpSpPr>
            <a:xfrm>
              <a:off x="6353280" y="4362480"/>
              <a:ext cx="380880" cy="833400"/>
              <a:chOff x="6353280" y="4362480"/>
              <a:chExt cx="380880" cy="83340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6548040" y="4362480"/>
                <a:ext cx="4680" cy="48096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53280" y="4815000"/>
                <a:ext cx="380880" cy="38088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348240" y="3753000"/>
              <a:ext cx="381240" cy="666720"/>
              <a:chOff x="6348240" y="3753000"/>
              <a:chExt cx="381240" cy="666720"/>
            </a:xfrm>
          </p:grpSpPr>
          <p:sp>
            <p:nvSpPr>
              <p:cNvPr id="155" name=""/>
              <p:cNvSpPr/>
              <p:nvPr/>
            </p:nvSpPr>
            <p:spPr>
              <a:xfrm>
                <a:off x="6543720" y="3753000"/>
                <a:ext cx="9360" cy="36180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48240" y="4038480"/>
                <a:ext cx="381240" cy="38124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Shared development branch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9000"/>
          </a:bodyPr>
          <a:p>
            <a:pPr marL="342360" indent="-3423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-3 developers working together on one “private branch” working on the same change or tightly coupled chang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lso good for mentor/apprentice pairing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2360" indent="-3423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n work in the same or separate view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parate - if you don’t want to see others’ checked-out fil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ame - if you need to reuse the others’ view-private fil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2360" indent="-3423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Arial Narrow"/>
              </a:rPr>
              <a:t>Close communication &amp; coordination is essential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t the usual advice, but can work well in above condi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 avoid some otherwise nasty interdependencies between branches for close-knit chang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st is less separability of changes, more coordination effor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Shared development branch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724800" y="3924360"/>
            <a:ext cx="1447560" cy="1371960"/>
            <a:chOff x="6724800" y="3924360"/>
            <a:chExt cx="1447560" cy="1371960"/>
          </a:xfrm>
        </p:grpSpPr>
        <p:grpSp>
          <p:nvGrpSpPr>
            <p:cNvPr id="161" name=""/>
            <p:cNvGrpSpPr/>
            <p:nvPr/>
          </p:nvGrpSpPr>
          <p:grpSpPr>
            <a:xfrm>
              <a:off x="6934320" y="3924360"/>
              <a:ext cx="1066320" cy="952200"/>
              <a:chOff x="6934320" y="3924360"/>
              <a:chExt cx="1066320" cy="9522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6934320" y="3924360"/>
                <a:ext cx="761760" cy="819000"/>
                <a:chOff x="6934320" y="3924360"/>
                <a:chExt cx="761760" cy="81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934320" y="4286160"/>
                  <a:ext cx="761760" cy="457200"/>
                </a:xfrm>
                <a:prstGeom prst="parallelogram">
                  <a:avLst>
                    <a:gd name="adj" fmla="val 41654"/>
                  </a:avLst>
                </a:prstGeom>
                <a:solidFill>
                  <a:srgbClr val="eaeaea"/>
                </a:solidFill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238880" y="3924360"/>
                  <a:ext cx="381240" cy="304560"/>
                </a:xfrm>
                <a:prstGeom prst="ellipse">
                  <a:avLst/>
                </a:prstGeom>
                <a:solidFill>
                  <a:srgbClr val="eaeaea"/>
                </a:solidFill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238880" y="4057560"/>
                <a:ext cx="761760" cy="819000"/>
                <a:chOff x="7238880" y="4057560"/>
                <a:chExt cx="761760" cy="81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238880" y="4419360"/>
                  <a:ext cx="761760" cy="457200"/>
                </a:xfrm>
                <a:prstGeom prst="parallelogram">
                  <a:avLst>
                    <a:gd name="adj" fmla="val 41654"/>
                  </a:avLst>
                </a:prstGeom>
                <a:solidFill>
                  <a:srgbClr val="eaeaea"/>
                </a:solidFill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543440" y="4057560"/>
                  <a:ext cx="381240" cy="304560"/>
                </a:xfrm>
                <a:prstGeom prst="ellipse">
                  <a:avLst/>
                </a:prstGeom>
                <a:solidFill>
                  <a:srgbClr val="eaeaea"/>
                </a:solidFill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8" name=""/>
            <p:cNvSpPr/>
            <p:nvPr/>
          </p:nvSpPr>
          <p:spPr>
            <a:xfrm>
              <a:off x="6724800" y="4838760"/>
              <a:ext cx="1447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 Narrow"/>
                </a:rPr>
                <a:t>Develope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195640" y="1119240"/>
            <a:ext cx="1752480" cy="1738440"/>
            <a:chOff x="2195640" y="1119240"/>
            <a:chExt cx="1752480" cy="1738440"/>
          </a:xfrm>
        </p:grpSpPr>
        <p:sp>
          <p:nvSpPr>
            <p:cNvPr id="170" name=""/>
            <p:cNvSpPr/>
            <p:nvPr/>
          </p:nvSpPr>
          <p:spPr>
            <a:xfrm>
              <a:off x="3105000" y="1905120"/>
              <a:ext cx="0" cy="60948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95640" y="1119240"/>
              <a:ext cx="1752480" cy="76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 Narrow"/>
                </a:rPr>
                <a:t>integration bran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09880" y="2476440"/>
              <a:ext cx="380880" cy="38124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29920" y="5214960"/>
            <a:ext cx="3313440" cy="555120"/>
            <a:chOff x="3229920" y="5214960"/>
            <a:chExt cx="3313440" cy="555120"/>
          </a:xfrm>
        </p:grpSpPr>
        <p:cxnSp>
          <p:nvCxnSpPr>
            <p:cNvPr id="174" name=""/>
            <p:cNvCxnSpPr>
              <a:stCxn id="175" idx="4"/>
              <a:endCxn id="176" idx="5"/>
            </p:cNvCxnSpPr>
            <p:nvPr/>
          </p:nvCxnSpPr>
          <p:spPr>
            <a:xfrm rot="5400000">
              <a:off x="4750200" y="3694680"/>
              <a:ext cx="273240" cy="3313800"/>
            </a:xfrm>
            <a:prstGeom prst="curvedConnector5">
              <a:avLst>
                <a:gd name="adj1" fmla="val 197229"/>
                <a:gd name="adj2" fmla="val 50000"/>
                <a:gd name="adj3" fmla="val 197229"/>
              </a:avLst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3657600" y="5257800"/>
              <a:ext cx="236232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 Narrow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 Narrow"/>
                </a:rPr>
                <a:t>merge bac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305160" y="2638440"/>
            <a:ext cx="4133880" cy="1055520"/>
            <a:chOff x="3305160" y="2638440"/>
            <a:chExt cx="4133880" cy="1055520"/>
          </a:xfrm>
        </p:grpSpPr>
        <p:sp>
          <p:nvSpPr>
            <p:cNvPr id="179" name=""/>
            <p:cNvSpPr/>
            <p:nvPr/>
          </p:nvSpPr>
          <p:spPr>
            <a:xfrm>
              <a:off x="3305160" y="2638440"/>
              <a:ext cx="3319560" cy="64296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57760" y="3267000"/>
              <a:ext cx="1781280" cy="4269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 Narrow"/>
                </a:rPr>
                <a:t>shared bran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905200" y="2838600"/>
            <a:ext cx="380880" cy="2685960"/>
            <a:chOff x="2905200" y="2838600"/>
            <a:chExt cx="380880" cy="2685960"/>
          </a:xfrm>
        </p:grpSpPr>
        <p:sp>
          <p:nvSpPr>
            <p:cNvPr id="176" name=""/>
            <p:cNvSpPr/>
            <p:nvPr/>
          </p:nvSpPr>
          <p:spPr>
            <a:xfrm>
              <a:off x="2905200" y="5143680"/>
              <a:ext cx="38088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05000" y="2838600"/>
              <a:ext cx="0" cy="228600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348240" y="3753000"/>
            <a:ext cx="385920" cy="1442880"/>
            <a:chOff x="6348240" y="3753000"/>
            <a:chExt cx="385920" cy="1442880"/>
          </a:xfrm>
        </p:grpSpPr>
        <p:grpSp>
          <p:nvGrpSpPr>
            <p:cNvPr id="184" name=""/>
            <p:cNvGrpSpPr/>
            <p:nvPr/>
          </p:nvGrpSpPr>
          <p:grpSpPr>
            <a:xfrm>
              <a:off x="6353280" y="4362480"/>
              <a:ext cx="380880" cy="833400"/>
              <a:chOff x="6353280" y="4362480"/>
              <a:chExt cx="380880" cy="833400"/>
            </a:xfrm>
          </p:grpSpPr>
          <p:sp>
            <p:nvSpPr>
              <p:cNvPr id="185" name=""/>
              <p:cNvSpPr/>
              <p:nvPr/>
            </p:nvSpPr>
            <p:spPr>
              <a:xfrm flipH="1">
                <a:off x="6548040" y="4362480"/>
                <a:ext cx="4680" cy="48096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53280" y="4815000"/>
                <a:ext cx="380880" cy="38088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348240" y="3753000"/>
              <a:ext cx="381240" cy="666720"/>
              <a:chOff x="6348240" y="3753000"/>
              <a:chExt cx="381240" cy="666720"/>
            </a:xfrm>
          </p:grpSpPr>
          <p:sp>
            <p:nvSpPr>
              <p:cNvPr id="187" name=""/>
              <p:cNvSpPr/>
              <p:nvPr/>
            </p:nvSpPr>
            <p:spPr>
              <a:xfrm>
                <a:off x="6543720" y="3753000"/>
                <a:ext cx="9360" cy="36180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348240" y="4038480"/>
                <a:ext cx="381240" cy="38124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Early vs Lazy Branching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arly Branching (a.k.a. “up front” or “just in case”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ranch-off a new line of work after it is planned, but before it actually begi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ranches for each rele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reates separate development &amp; maintenance lines early 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77000"/>
              </a:lnSpc>
              <a:spcBef>
                <a:spcPts val="29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azy Branching (a.k.a. “deferred” or “just in time”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ait to branch-off a new line of work until real work actually begins on that line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ranches for major releases, &amp; for latest-and-greatest wor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reates maintenance lines very late, starting them off as release-engineering work to allow LAG work to conti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0">
              <a:lnSpc>
                <a:spcPct val="7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Arial Narrow"/>
              </a:rPr>
              <a:t>Early Branching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309680" y="1733400"/>
            <a:ext cx="1785960" cy="1567080"/>
            <a:chOff x="1309680" y="1733400"/>
            <a:chExt cx="1785960" cy="1567080"/>
          </a:xfrm>
        </p:grpSpPr>
        <p:grpSp>
          <p:nvGrpSpPr>
            <p:cNvPr id="193" name=""/>
            <p:cNvGrpSpPr/>
            <p:nvPr/>
          </p:nvGrpSpPr>
          <p:grpSpPr>
            <a:xfrm>
              <a:off x="1309680" y="1733400"/>
              <a:ext cx="1785960" cy="475560"/>
              <a:chOff x="1309680" y="1733400"/>
              <a:chExt cx="1785960" cy="475560"/>
            </a:xfrm>
          </p:grpSpPr>
          <p:sp>
            <p:nvSpPr>
              <p:cNvPr id="194" name=""/>
              <p:cNvSpPr/>
              <p:nvPr/>
            </p:nvSpPr>
            <p:spPr>
              <a:xfrm flipV="1">
                <a:off x="1309680" y="1981080"/>
                <a:ext cx="414360" cy="1440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7040" bIns="-77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43120" y="1733400"/>
                <a:ext cx="1352520" cy="47556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00"/>
                    </a:solidFill>
                    <a:latin typeface="Arial Narrow"/>
                  </a:rPr>
                  <a:t>R1.1 de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2390760" y="2228760"/>
              <a:ext cx="4680" cy="107172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19040" y="1028880"/>
            <a:ext cx="1295640" cy="4705200"/>
            <a:chOff x="419040" y="1028880"/>
            <a:chExt cx="1295640" cy="4705200"/>
          </a:xfrm>
        </p:grpSpPr>
        <p:sp>
          <p:nvSpPr>
            <p:cNvPr id="198" name=""/>
            <p:cNvSpPr/>
            <p:nvPr/>
          </p:nvSpPr>
          <p:spPr>
            <a:xfrm>
              <a:off x="419040" y="1028880"/>
              <a:ext cx="1295640" cy="4755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 Narrow"/>
                </a:rPr>
                <a:t>Mainl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6680" y="1542960"/>
              <a:ext cx="0" cy="419112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205000" y="2505240"/>
            <a:ext cx="385920" cy="1176120"/>
            <a:chOff x="2205000" y="2505240"/>
            <a:chExt cx="385920" cy="1176120"/>
          </a:xfrm>
        </p:grpSpPr>
        <p:sp>
          <p:nvSpPr>
            <p:cNvPr id="201" name=""/>
            <p:cNvSpPr/>
            <p:nvPr/>
          </p:nvSpPr>
          <p:spPr>
            <a:xfrm>
              <a:off x="2205000" y="2505240"/>
              <a:ext cx="38088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09680" y="3300480"/>
              <a:ext cx="38124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095560" y="4900680"/>
            <a:ext cx="380880" cy="3808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38760" y="5505480"/>
            <a:ext cx="380880" cy="3808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90400" y="1752480"/>
            <a:ext cx="914400" cy="550440"/>
            <a:chOff x="590400" y="1752480"/>
            <a:chExt cx="914400" cy="550440"/>
          </a:xfrm>
        </p:grpSpPr>
        <p:sp>
          <p:nvSpPr>
            <p:cNvPr id="206" name=""/>
            <p:cNvSpPr/>
            <p:nvPr/>
          </p:nvSpPr>
          <p:spPr>
            <a:xfrm>
              <a:off x="790560" y="1752480"/>
              <a:ext cx="495360" cy="53352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400" y="1790640"/>
              <a:ext cx="9144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 Narrow"/>
                </a:rPr>
                <a:t>R1.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81040" y="3238560"/>
            <a:ext cx="1609560" cy="550440"/>
            <a:chOff x="581040" y="3238560"/>
            <a:chExt cx="1609560" cy="550440"/>
          </a:xfrm>
        </p:grpSpPr>
        <p:sp>
          <p:nvSpPr>
            <p:cNvPr id="209" name=""/>
            <p:cNvSpPr/>
            <p:nvPr/>
          </p:nvSpPr>
          <p:spPr>
            <a:xfrm flipH="1">
              <a:off x="1314360" y="3467160"/>
              <a:ext cx="876240" cy="1908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360" bIns="-72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581040" y="3238560"/>
              <a:ext cx="914400" cy="550440"/>
              <a:chOff x="581040" y="3238560"/>
              <a:chExt cx="914400" cy="550440"/>
            </a:xfrm>
          </p:grpSpPr>
          <p:sp>
            <p:nvSpPr>
              <p:cNvPr id="211" name=""/>
              <p:cNvSpPr/>
              <p:nvPr/>
            </p:nvSpPr>
            <p:spPr>
              <a:xfrm>
                <a:off x="780840" y="3238560"/>
                <a:ext cx="495360" cy="53352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81040" y="3276720"/>
                <a:ext cx="91440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Arial Narrow"/>
                  </a:rPr>
                  <a:t>R1.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581040" y="4819680"/>
            <a:ext cx="1495080" cy="550440"/>
            <a:chOff x="581040" y="4819680"/>
            <a:chExt cx="1495080" cy="550440"/>
          </a:xfrm>
        </p:grpSpPr>
        <p:sp>
          <p:nvSpPr>
            <p:cNvPr id="214" name=""/>
            <p:cNvSpPr/>
            <p:nvPr/>
          </p:nvSpPr>
          <p:spPr>
            <a:xfrm flipH="1">
              <a:off x="1314000" y="5105520"/>
              <a:ext cx="762120" cy="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581040" y="4819680"/>
              <a:ext cx="914400" cy="550440"/>
              <a:chOff x="581040" y="4819680"/>
              <a:chExt cx="914400" cy="550440"/>
            </a:xfrm>
          </p:grpSpPr>
          <p:sp>
            <p:nvSpPr>
              <p:cNvPr id="216" name=""/>
              <p:cNvSpPr/>
              <p:nvPr/>
            </p:nvSpPr>
            <p:spPr>
              <a:xfrm>
                <a:off x="780840" y="4819680"/>
                <a:ext cx="495360" cy="53352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81040" y="4857840"/>
                <a:ext cx="91440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Arial Narrow"/>
                  </a:rPr>
                  <a:t>R1.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1228680" y="3562200"/>
            <a:ext cx="3571920" cy="1976760"/>
            <a:chOff x="1228680" y="3562200"/>
            <a:chExt cx="3571920" cy="1976760"/>
          </a:xfrm>
        </p:grpSpPr>
        <p:grpSp>
          <p:nvGrpSpPr>
            <p:cNvPr id="219" name=""/>
            <p:cNvGrpSpPr/>
            <p:nvPr/>
          </p:nvGrpSpPr>
          <p:grpSpPr>
            <a:xfrm>
              <a:off x="1228680" y="3648240"/>
              <a:ext cx="1724040" cy="961200"/>
              <a:chOff x="1228680" y="3648240"/>
              <a:chExt cx="1724040" cy="961200"/>
            </a:xfrm>
          </p:grpSpPr>
          <p:sp>
            <p:nvSpPr>
              <p:cNvPr id="220" name=""/>
              <p:cNvSpPr/>
              <p:nvPr/>
            </p:nvSpPr>
            <p:spPr>
              <a:xfrm>
                <a:off x="1228680" y="3648240"/>
                <a:ext cx="1066680" cy="47592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1120" y="4133880"/>
                <a:ext cx="1371600" cy="47556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00"/>
                    </a:solidFill>
                    <a:latin typeface="Arial Narrow"/>
                  </a:rPr>
                  <a:t>R1.2 de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285920" y="3562200"/>
              <a:ext cx="3514680" cy="866160"/>
              <a:chOff x="1285920" y="3562200"/>
              <a:chExt cx="3514680" cy="866160"/>
            </a:xfrm>
          </p:grpSpPr>
          <p:sp>
            <p:nvSpPr>
              <p:cNvPr id="223" name=""/>
              <p:cNvSpPr/>
              <p:nvPr/>
            </p:nvSpPr>
            <p:spPr>
              <a:xfrm>
                <a:off x="1285920" y="3562200"/>
                <a:ext cx="2228760" cy="62892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05320" y="3952800"/>
                <a:ext cx="1295280" cy="47556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00"/>
                    </a:solidFill>
                    <a:latin typeface="Arial Narrow"/>
                  </a:rPr>
                  <a:t>R2.0 de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4133880" y="4467240"/>
              <a:ext cx="4680" cy="107172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0" y="4667400"/>
              <a:ext cx="0" cy="22860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81040" y="5676840"/>
            <a:ext cx="3381480" cy="550440"/>
            <a:chOff x="581040" y="5676840"/>
            <a:chExt cx="3381480" cy="550440"/>
          </a:xfrm>
        </p:grpSpPr>
        <p:grpSp>
          <p:nvGrpSpPr>
            <p:cNvPr id="228" name=""/>
            <p:cNvGrpSpPr/>
            <p:nvPr/>
          </p:nvGrpSpPr>
          <p:grpSpPr>
            <a:xfrm>
              <a:off x="581040" y="5676840"/>
              <a:ext cx="914400" cy="550440"/>
              <a:chOff x="581040" y="5676840"/>
              <a:chExt cx="914400" cy="550440"/>
            </a:xfrm>
          </p:grpSpPr>
          <p:sp>
            <p:nvSpPr>
              <p:cNvPr id="229" name=""/>
              <p:cNvSpPr/>
              <p:nvPr/>
            </p:nvSpPr>
            <p:spPr>
              <a:xfrm>
                <a:off x="780840" y="5676840"/>
                <a:ext cx="495360" cy="53352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1040" y="5715000"/>
                <a:ext cx="91440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Arial Narrow"/>
                  </a:rPr>
                  <a:t>R2.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1276200" y="5715000"/>
              <a:ext cx="2686320" cy="438120"/>
            </a:xfrm>
            <a:custGeom>
              <a:avLst/>
              <a:gdLst/>
              <a:ahLst/>
              <a:rect l="l" t="t" r="r" b="b"/>
              <a:pathLst>
                <a:path w="1440" h="384">
                  <a:moveTo>
                    <a:pt x="1440" y="0"/>
                  </a:moveTo>
                  <a:cubicBezTo>
                    <a:pt x="1248" y="144"/>
                    <a:pt x="1056" y="288"/>
                    <a:pt x="816" y="336"/>
                  </a:cubicBezTo>
                  <a:cubicBezTo>
                    <a:pt x="576" y="384"/>
                    <a:pt x="288" y="336"/>
                    <a:pt x="0" y="288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791320" y="971640"/>
            <a:ext cx="1600200" cy="5010120"/>
            <a:chOff x="5791320" y="971640"/>
            <a:chExt cx="1600200" cy="5010120"/>
          </a:xfrm>
        </p:grpSpPr>
        <p:sp>
          <p:nvSpPr>
            <p:cNvPr id="233" name=""/>
            <p:cNvSpPr/>
            <p:nvPr/>
          </p:nvSpPr>
          <p:spPr>
            <a:xfrm>
              <a:off x="5791320" y="971640"/>
              <a:ext cx="1600200" cy="76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 Narrow"/>
                </a:rPr>
                <a:t>Latest &amp; Greate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10320" y="1790640"/>
              <a:ext cx="0" cy="419112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124680" y="5886360"/>
            <a:ext cx="914400" cy="550440"/>
            <a:chOff x="6124680" y="5886360"/>
            <a:chExt cx="914400" cy="550440"/>
          </a:xfrm>
        </p:grpSpPr>
        <p:sp>
          <p:nvSpPr>
            <p:cNvPr id="236" name=""/>
            <p:cNvSpPr/>
            <p:nvPr/>
          </p:nvSpPr>
          <p:spPr>
            <a:xfrm>
              <a:off x="6324480" y="5886360"/>
              <a:ext cx="495360" cy="53352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24680" y="5924520"/>
              <a:ext cx="9144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 Narrow"/>
                </a:rPr>
                <a:t>R2.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143760" y="2000160"/>
            <a:ext cx="914400" cy="550440"/>
            <a:chOff x="6143760" y="2000160"/>
            <a:chExt cx="914400" cy="550440"/>
          </a:xfrm>
        </p:grpSpPr>
        <p:sp>
          <p:nvSpPr>
            <p:cNvPr id="239" name=""/>
            <p:cNvSpPr/>
            <p:nvPr/>
          </p:nvSpPr>
          <p:spPr>
            <a:xfrm>
              <a:off x="6343560" y="2000160"/>
              <a:ext cx="495360" cy="53352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43760" y="2038320"/>
              <a:ext cx="9144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 Narrow"/>
                </a:rPr>
                <a:t>R1.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862680" y="1981080"/>
            <a:ext cx="1785960" cy="3162600"/>
            <a:chOff x="6862680" y="1981080"/>
            <a:chExt cx="1785960" cy="3162600"/>
          </a:xfrm>
        </p:grpSpPr>
        <p:sp>
          <p:nvSpPr>
            <p:cNvPr id="242" name=""/>
            <p:cNvSpPr/>
            <p:nvPr/>
          </p:nvSpPr>
          <p:spPr>
            <a:xfrm>
              <a:off x="7962840" y="2476440"/>
              <a:ext cx="0" cy="266724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862680" y="1981080"/>
              <a:ext cx="1785960" cy="475560"/>
              <a:chOff x="6862680" y="1981080"/>
              <a:chExt cx="1785960" cy="47556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6862680" y="2228760"/>
                <a:ext cx="414360" cy="1440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7040" bIns="-77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296120" y="1981080"/>
                <a:ext cx="1352520" cy="47556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00"/>
                    </a:solidFill>
                    <a:latin typeface="Arial Narrow"/>
                  </a:rPr>
                  <a:t>R1 main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7515360" y="2752560"/>
            <a:ext cx="914400" cy="1284120"/>
            <a:chOff x="7515360" y="2752560"/>
            <a:chExt cx="914400" cy="1284120"/>
          </a:xfrm>
        </p:grpSpPr>
        <p:grpSp>
          <p:nvGrpSpPr>
            <p:cNvPr id="247" name=""/>
            <p:cNvGrpSpPr/>
            <p:nvPr/>
          </p:nvGrpSpPr>
          <p:grpSpPr>
            <a:xfrm>
              <a:off x="7515360" y="3486240"/>
              <a:ext cx="914400" cy="550440"/>
              <a:chOff x="7515360" y="3486240"/>
              <a:chExt cx="914400" cy="550440"/>
            </a:xfrm>
          </p:grpSpPr>
          <p:sp>
            <p:nvSpPr>
              <p:cNvPr id="248" name=""/>
              <p:cNvSpPr/>
              <p:nvPr/>
            </p:nvSpPr>
            <p:spPr>
              <a:xfrm>
                <a:off x="7715160" y="3486240"/>
                <a:ext cx="495360" cy="53316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5360" y="3524400"/>
                <a:ext cx="91440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Arial Narrow"/>
                  </a:rPr>
                  <a:t>R1.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7748640" y="2752560"/>
              <a:ext cx="380880" cy="38124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400800" y="3548160"/>
            <a:ext cx="1257120" cy="380880"/>
            <a:chOff x="6400800" y="3548160"/>
            <a:chExt cx="1257120" cy="380880"/>
          </a:xfrm>
        </p:grpSpPr>
        <p:sp>
          <p:nvSpPr>
            <p:cNvPr id="252" name=""/>
            <p:cNvSpPr/>
            <p:nvPr/>
          </p:nvSpPr>
          <p:spPr>
            <a:xfrm>
              <a:off x="6400800" y="3548160"/>
              <a:ext cx="38088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781320" y="3714840"/>
              <a:ext cx="876600" cy="1908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360" bIns="-72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496280" y="5029200"/>
            <a:ext cx="914400" cy="550440"/>
            <a:chOff x="7496280" y="5029200"/>
            <a:chExt cx="914400" cy="550440"/>
          </a:xfrm>
        </p:grpSpPr>
        <p:sp>
          <p:nvSpPr>
            <p:cNvPr id="255" name=""/>
            <p:cNvSpPr/>
            <p:nvPr/>
          </p:nvSpPr>
          <p:spPr>
            <a:xfrm>
              <a:off x="7696080" y="5029200"/>
              <a:ext cx="495360" cy="53352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96280" y="5067360"/>
              <a:ext cx="9144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 Narrow"/>
                </a:rPr>
                <a:t>R1.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400800" y="5091120"/>
            <a:ext cx="1276200" cy="380880"/>
            <a:chOff x="6400800" y="5091120"/>
            <a:chExt cx="1276200" cy="380880"/>
          </a:xfrm>
        </p:grpSpPr>
        <p:sp>
          <p:nvSpPr>
            <p:cNvPr id="258" name=""/>
            <p:cNvSpPr/>
            <p:nvPr/>
          </p:nvSpPr>
          <p:spPr>
            <a:xfrm>
              <a:off x="6400800" y="5091120"/>
              <a:ext cx="38088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800760" y="5257800"/>
              <a:ext cx="876240" cy="1908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360" bIns="-72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486400" y="0"/>
            <a:ext cx="32767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Arial Narrow"/>
              </a:rPr>
              <a:t>Lazy Branch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38480" y="19080"/>
            <a:ext cx="106704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v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762120"/>
            <a:ext cx="4876920" cy="5562360"/>
          </a:xfrm>
          <a:prstGeom prst="rect">
            <a:avLst/>
          </a:prstGeom>
          <a:noFill/>
          <a:ln cap="rnd" w="57240">
            <a:solidFill>
              <a:srgbClr val="ff6699"/>
            </a:solidFill>
            <a:custDash>
              <a:ds d="100000" sp="1000"/>
            </a:custDash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762120"/>
            <a:ext cx="3352680" cy="5790960"/>
          </a:xfrm>
          <a:prstGeom prst="rect">
            <a:avLst/>
          </a:prstGeom>
          <a:noFill/>
          <a:ln cap="rnd" w="57240">
            <a:solidFill>
              <a:srgbClr val="ff6699"/>
            </a:solidFill>
            <a:custDash>
              <a:ds d="100000" sp="1000"/>
            </a:custDash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2838600"/>
            <a:ext cx="380880" cy="3808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00800" y="4286160"/>
            <a:ext cx="380880" cy="38124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Push vs Pull integration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9000"/>
          </a:bodyPr>
          <a:p>
            <a:pPr marL="342360" indent="-3423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veloper-Push Integr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velopers merge (push) their own changes to the int-bran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isks greater stability to achieve greater productiv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elps avoid dysfunctional “throw it over the wall” scenari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quires greater trust and proficiency of the develop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2360" indent="-3423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grator-Pull Integr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velopers submit completed changes to an integra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grator merges (pulls) dev. changes to the int.bran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ffers more reliable stability/integrity, but less up-to-da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 often turn into dysfunctional “throw it over the wall” scenari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Shared integration branch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ultiple developers need to share their changes, but still need their own private branch (no shared development branches or view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reate a shared “mini-integration” branch for them to see the latest “good” status of each others chang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ork still happens on private branches, but changes get pushed to the shared integration branch when needed, and also when complet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ivate branches merge to/from the collaborative int-branch instead of each other (prevents ugly branch dependencie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fter all private branches are pushed to it, the shared  “mini-integration” branch is merged to the int-branc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Outlin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7000"/>
              </a:lnSpc>
              <a:spcBef>
                <a:spcPts val="13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rofessional background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3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Intended audienc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3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Branching &amp; labeling concepts &amp; issu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3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Branching &amp; labeling “best practices”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3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Using the “best practices”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3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General advice and recurring them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3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Q&amp;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Shared integration branch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71" name=""/>
          <p:cNvSpPr/>
          <p:nvPr/>
        </p:nvSpPr>
        <p:spPr>
          <a:xfrm>
            <a:off x="614520" y="914400"/>
            <a:ext cx="1752480" cy="806040"/>
          </a:xfrm>
          <a:prstGeom prst="rect">
            <a:avLst/>
          </a:prstGeom>
          <a:solidFill>
            <a:srgbClr val="ffff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Narrow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09840" y="1771560"/>
            <a:ext cx="0" cy="320040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90600" y="2043000"/>
            <a:ext cx="380880" cy="38124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285920" y="4976640"/>
            <a:ext cx="3933360" cy="1388880"/>
            <a:chOff x="1285920" y="4976640"/>
            <a:chExt cx="3933360" cy="1388880"/>
          </a:xfrm>
        </p:grpSpPr>
        <p:sp>
          <p:nvSpPr>
            <p:cNvPr id="275" name=""/>
            <p:cNvSpPr/>
            <p:nvPr/>
          </p:nvSpPr>
          <p:spPr>
            <a:xfrm>
              <a:off x="1285920" y="4976640"/>
              <a:ext cx="380880" cy="38124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610640" y="5320440"/>
              <a:ext cx="3608640" cy="1045080"/>
              <a:chOff x="1610640" y="5320440"/>
              <a:chExt cx="3608640" cy="1045080"/>
            </a:xfrm>
          </p:grpSpPr>
          <p:cxnSp>
            <p:nvCxnSpPr>
              <p:cNvPr id="277" name=""/>
              <p:cNvCxnSpPr>
                <a:stCxn id="278" idx="4"/>
                <a:endCxn id="275" idx="5"/>
              </p:cNvCxnSpPr>
              <p:nvPr/>
            </p:nvCxnSpPr>
            <p:spPr>
              <a:xfrm flipV="1" rot="16200000">
                <a:off x="3332160" y="3598920"/>
                <a:ext cx="165960" cy="3609000"/>
              </a:xfrm>
              <a:prstGeom prst="curvedConnector5">
                <a:avLst>
                  <a:gd name="adj1" fmla="val -253695"/>
                  <a:gd name="adj2" fmla="val 50000"/>
                  <a:gd name="adj3" fmla="val -253695"/>
                </a:avLst>
              </a:prstGeom>
              <a:ln w="3816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279" name=""/>
              <p:cNvSpPr/>
              <p:nvPr/>
            </p:nvSpPr>
            <p:spPr>
              <a:xfrm>
                <a:off x="2171880" y="5853240"/>
                <a:ext cx="23619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 Narrow"/>
                  </a:rPr>
                  <a:t> 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Arial Narrow"/>
                  </a:rPr>
                  <a:t>merge bac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6858000" y="3905280"/>
            <a:ext cx="380880" cy="3808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124760" y="2919240"/>
            <a:ext cx="1447920" cy="1238760"/>
            <a:chOff x="7124760" y="2919240"/>
            <a:chExt cx="1447920" cy="1238760"/>
          </a:xfrm>
        </p:grpSpPr>
        <p:grpSp>
          <p:nvGrpSpPr>
            <p:cNvPr id="282" name=""/>
            <p:cNvGrpSpPr/>
            <p:nvPr/>
          </p:nvGrpSpPr>
          <p:grpSpPr>
            <a:xfrm>
              <a:off x="7505640" y="2919240"/>
              <a:ext cx="761760" cy="819000"/>
              <a:chOff x="7505640" y="2919240"/>
              <a:chExt cx="761760" cy="819000"/>
            </a:xfrm>
          </p:grpSpPr>
          <p:sp>
            <p:nvSpPr>
              <p:cNvPr id="283" name=""/>
              <p:cNvSpPr/>
              <p:nvPr/>
            </p:nvSpPr>
            <p:spPr>
              <a:xfrm>
                <a:off x="7505640" y="3281040"/>
                <a:ext cx="761760" cy="457200"/>
              </a:xfrm>
              <a:prstGeom prst="parallelogram">
                <a:avLst>
                  <a:gd name="adj" fmla="val 41654"/>
                </a:avLst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810200" y="2919240"/>
                <a:ext cx="381240" cy="304560"/>
              </a:xfrm>
              <a:prstGeom prst="ellipse">
                <a:avLst/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7124760" y="3700440"/>
              <a:ext cx="1447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 Narrow"/>
                </a:rPr>
                <a:t>Develop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752480" y="3262320"/>
            <a:ext cx="1447920" cy="1238760"/>
            <a:chOff x="1752480" y="3262320"/>
            <a:chExt cx="1447920" cy="1238760"/>
          </a:xfrm>
        </p:grpSpPr>
        <p:grpSp>
          <p:nvGrpSpPr>
            <p:cNvPr id="287" name=""/>
            <p:cNvGrpSpPr/>
            <p:nvPr/>
          </p:nvGrpSpPr>
          <p:grpSpPr>
            <a:xfrm>
              <a:off x="2133720" y="3262320"/>
              <a:ext cx="761760" cy="819000"/>
              <a:chOff x="2133720" y="3262320"/>
              <a:chExt cx="761760" cy="819000"/>
            </a:xfrm>
          </p:grpSpPr>
          <p:sp>
            <p:nvSpPr>
              <p:cNvPr id="288" name=""/>
              <p:cNvSpPr/>
              <p:nvPr/>
            </p:nvSpPr>
            <p:spPr>
              <a:xfrm>
                <a:off x="2133720" y="3624120"/>
                <a:ext cx="761760" cy="457200"/>
              </a:xfrm>
              <a:prstGeom prst="parallelogram">
                <a:avLst>
                  <a:gd name="adj" fmla="val 41654"/>
                </a:avLst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438280" y="3262320"/>
                <a:ext cx="381240" cy="304560"/>
              </a:xfrm>
              <a:prstGeom prst="ellipse">
                <a:avLst/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752480" y="4043520"/>
              <a:ext cx="1447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Develop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638360" y="1274760"/>
            <a:ext cx="4381560" cy="3816360"/>
            <a:chOff x="1638360" y="1274760"/>
            <a:chExt cx="4381560" cy="3816360"/>
          </a:xfrm>
        </p:grpSpPr>
        <p:grpSp>
          <p:nvGrpSpPr>
            <p:cNvPr id="292" name=""/>
            <p:cNvGrpSpPr/>
            <p:nvPr/>
          </p:nvGrpSpPr>
          <p:grpSpPr>
            <a:xfrm>
              <a:off x="5043600" y="1995480"/>
              <a:ext cx="380880" cy="3095640"/>
              <a:chOff x="5043600" y="1995480"/>
              <a:chExt cx="380880" cy="3095640"/>
            </a:xfrm>
          </p:grpSpPr>
          <p:sp>
            <p:nvSpPr>
              <p:cNvPr id="293" name=""/>
              <p:cNvSpPr/>
              <p:nvPr/>
            </p:nvSpPr>
            <p:spPr>
              <a:xfrm flipH="1">
                <a:off x="5219640" y="1995480"/>
                <a:ext cx="28800" cy="309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043600" y="2728800"/>
                <a:ext cx="380880" cy="381240"/>
              </a:xfrm>
              <a:prstGeom prst="ellipse">
                <a:avLst/>
              </a:prstGeom>
              <a:solidFill>
                <a:srgbClr val="ff66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638360" y="1274760"/>
              <a:ext cx="4381560" cy="844200"/>
              <a:chOff x="1638360" y="1274760"/>
              <a:chExt cx="4381560" cy="844200"/>
            </a:xfrm>
          </p:grpSpPr>
          <p:sp>
            <p:nvSpPr>
              <p:cNvPr id="296" name=""/>
              <p:cNvSpPr/>
              <p:nvPr/>
            </p:nvSpPr>
            <p:spPr>
              <a:xfrm>
                <a:off x="4381560" y="1274760"/>
                <a:ext cx="1638360" cy="670680"/>
              </a:xfrm>
              <a:prstGeom prst="rect">
                <a:avLst/>
              </a:prstGeom>
              <a:solidFill>
                <a:srgbClr val="ffcc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 Narrow"/>
                  </a:rPr>
                  <a:t>shared int.branc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1638360" y="1433160"/>
                <a:ext cx="274320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1657440" y="2195640"/>
            <a:ext cx="6276960" cy="2819160"/>
            <a:chOff x="1657440" y="2195640"/>
            <a:chExt cx="6276960" cy="2819160"/>
          </a:xfrm>
        </p:grpSpPr>
        <p:grpSp>
          <p:nvGrpSpPr>
            <p:cNvPr id="299" name=""/>
            <p:cNvGrpSpPr/>
            <p:nvPr/>
          </p:nvGrpSpPr>
          <p:grpSpPr>
            <a:xfrm>
              <a:off x="3295800" y="2833560"/>
              <a:ext cx="3747960" cy="2181240"/>
              <a:chOff x="3295800" y="2833560"/>
              <a:chExt cx="3747960" cy="2181240"/>
            </a:xfrm>
          </p:grpSpPr>
          <p:sp>
            <p:nvSpPr>
              <p:cNvPr id="300" name=""/>
              <p:cNvSpPr/>
              <p:nvPr/>
            </p:nvSpPr>
            <p:spPr>
              <a:xfrm>
                <a:off x="3295800" y="3110040"/>
                <a:ext cx="0" cy="190476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039080" y="2833560"/>
                <a:ext cx="4680" cy="107172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657440" y="2195640"/>
              <a:ext cx="6276960" cy="884160"/>
              <a:chOff x="1657440" y="2195640"/>
              <a:chExt cx="6276960" cy="88416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1657440" y="2195640"/>
                <a:ext cx="6276960" cy="588600"/>
                <a:chOff x="1657440" y="2195640"/>
                <a:chExt cx="6276960" cy="5886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6153120" y="2357280"/>
                  <a:ext cx="1781280" cy="426960"/>
                </a:xfrm>
                <a:prstGeom prst="rect">
                  <a:avLst/>
                </a:prstGeom>
                <a:solidFill>
                  <a:srgbClr val="ffff99"/>
                </a:solidFill>
                <a:ln w="38160">
                  <a:solidFill>
                    <a:srgbClr val="33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1440" bIns="9144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Arial Narrow"/>
                    </a:rPr>
                    <a:t>private branch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57440" y="2195640"/>
                  <a:ext cx="4495680" cy="380880"/>
                </a:xfrm>
                <a:prstGeom prst="line">
                  <a:avLst/>
                </a:prstGeom>
                <a:ln w="38160">
                  <a:solidFill>
                    <a:srgbClr val="33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1440" bIns="9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1666800" y="2271600"/>
                <a:ext cx="2514600" cy="808200"/>
                <a:chOff x="1666800" y="2271600"/>
                <a:chExt cx="2514600" cy="8082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00480" y="2652840"/>
                  <a:ext cx="1780920" cy="426960"/>
                </a:xfrm>
                <a:prstGeom prst="rect">
                  <a:avLst/>
                </a:prstGeom>
                <a:solidFill>
                  <a:srgbClr val="ffff99"/>
                </a:solidFill>
                <a:ln w="38160">
                  <a:solidFill>
                    <a:srgbClr val="33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1440" bIns="9144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Arial Narrow"/>
                    </a:rPr>
                    <a:t>private branch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66800" y="2271600"/>
                  <a:ext cx="1067040" cy="381240"/>
                </a:xfrm>
                <a:prstGeom prst="line">
                  <a:avLst/>
                </a:prstGeom>
                <a:ln w="38160">
                  <a:solidFill>
                    <a:srgbClr val="33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1440" bIns="9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9" name=""/>
          <p:cNvGrpSpPr/>
          <p:nvPr/>
        </p:nvGrpSpPr>
        <p:grpSpPr>
          <a:xfrm>
            <a:off x="5448240" y="3110040"/>
            <a:ext cx="1785960" cy="609480"/>
            <a:chOff x="5448240" y="3110040"/>
            <a:chExt cx="1785960" cy="609480"/>
          </a:xfrm>
        </p:grpSpPr>
        <p:sp>
          <p:nvSpPr>
            <p:cNvPr id="310" name=""/>
            <p:cNvSpPr/>
            <p:nvPr/>
          </p:nvSpPr>
          <p:spPr>
            <a:xfrm>
              <a:off x="6853320" y="3110040"/>
              <a:ext cx="38088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448240" y="3338640"/>
              <a:ext cx="1371600" cy="380880"/>
            </a:xfrm>
            <a:prstGeom prst="line">
              <a:avLst/>
            </a:prstGeom>
            <a:ln w="28440">
              <a:solidFill>
                <a:srgbClr val="ff6699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467160" y="3548160"/>
            <a:ext cx="1957320" cy="380880"/>
            <a:chOff x="3467160" y="3548160"/>
            <a:chExt cx="1957320" cy="380880"/>
          </a:xfrm>
        </p:grpSpPr>
        <p:sp>
          <p:nvSpPr>
            <p:cNvPr id="313" name=""/>
            <p:cNvSpPr/>
            <p:nvPr/>
          </p:nvSpPr>
          <p:spPr>
            <a:xfrm>
              <a:off x="5043600" y="3548160"/>
              <a:ext cx="380880" cy="380880"/>
            </a:xfrm>
            <a:prstGeom prst="ellipse">
              <a:avLst/>
            </a:prstGeom>
            <a:solidFill>
              <a:srgbClr val="ff66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67160" y="3567240"/>
              <a:ext cx="1600200" cy="1522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60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043600" y="4176720"/>
            <a:ext cx="1776240" cy="533520"/>
            <a:chOff x="5043600" y="4176720"/>
            <a:chExt cx="1776240" cy="533520"/>
          </a:xfrm>
        </p:grpSpPr>
        <p:sp>
          <p:nvSpPr>
            <p:cNvPr id="316" name=""/>
            <p:cNvSpPr/>
            <p:nvPr/>
          </p:nvSpPr>
          <p:spPr>
            <a:xfrm>
              <a:off x="5043600" y="4329000"/>
              <a:ext cx="380880" cy="381240"/>
            </a:xfrm>
            <a:prstGeom prst="ellipse">
              <a:avLst/>
            </a:prstGeom>
            <a:solidFill>
              <a:srgbClr val="ff66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5448240" y="4176720"/>
              <a:ext cx="1371600" cy="304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105000" y="4191120"/>
            <a:ext cx="1962360" cy="544320"/>
            <a:chOff x="3105000" y="4191120"/>
            <a:chExt cx="1962360" cy="544320"/>
          </a:xfrm>
        </p:grpSpPr>
        <p:sp>
          <p:nvSpPr>
            <p:cNvPr id="319" name=""/>
            <p:cNvSpPr/>
            <p:nvPr/>
          </p:nvSpPr>
          <p:spPr>
            <a:xfrm>
              <a:off x="3105000" y="4191120"/>
              <a:ext cx="38124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67160" y="4405320"/>
              <a:ext cx="1600200" cy="330120"/>
            </a:xfrm>
            <a:custGeom>
              <a:avLst/>
              <a:gdLst/>
              <a:ahLst/>
              <a:rect l="l" t="t" r="r" b="b"/>
              <a:pathLst>
                <a:path w="1008" h="208">
                  <a:moveTo>
                    <a:pt x="1008" y="96"/>
                  </a:moveTo>
                  <a:cubicBezTo>
                    <a:pt x="900" y="152"/>
                    <a:pt x="792" y="208"/>
                    <a:pt x="624" y="192"/>
                  </a:cubicBezTo>
                  <a:cubicBezTo>
                    <a:pt x="456" y="176"/>
                    <a:pt x="228" y="88"/>
                    <a:pt x="0" y="0"/>
                  </a:cubicBezTo>
                </a:path>
              </a:pathLst>
            </a:custGeom>
            <a:noFill/>
            <a:ln w="28440">
              <a:solidFill>
                <a:srgbClr val="ff66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105000" y="5029200"/>
            <a:ext cx="381240" cy="3808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467160" y="5086440"/>
            <a:ext cx="1942920" cy="474480"/>
            <a:chOff x="3467160" y="5086440"/>
            <a:chExt cx="1942920" cy="474480"/>
          </a:xfrm>
        </p:grpSpPr>
        <p:sp>
          <p:nvSpPr>
            <p:cNvPr id="278" name=""/>
            <p:cNvSpPr/>
            <p:nvPr/>
          </p:nvSpPr>
          <p:spPr>
            <a:xfrm>
              <a:off x="5029200" y="5086440"/>
              <a:ext cx="380880" cy="380880"/>
            </a:xfrm>
            <a:prstGeom prst="ellipse">
              <a:avLst/>
            </a:prstGeom>
            <a:solidFill>
              <a:srgbClr val="ff66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67160" y="5243400"/>
              <a:ext cx="1523880" cy="317520"/>
            </a:xfrm>
            <a:custGeom>
              <a:avLst/>
              <a:gdLst/>
              <a:ahLst/>
              <a:rect l="l" t="t" r="r" b="b"/>
              <a:pathLst>
                <a:path w="960" h="200">
                  <a:moveTo>
                    <a:pt x="0" y="0"/>
                  </a:moveTo>
                  <a:cubicBezTo>
                    <a:pt x="160" y="92"/>
                    <a:pt x="320" y="184"/>
                    <a:pt x="480" y="192"/>
                  </a:cubicBezTo>
                  <a:cubicBezTo>
                    <a:pt x="640" y="200"/>
                    <a:pt x="800" y="124"/>
                    <a:pt x="960" y="4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100320" y="3395520"/>
            <a:ext cx="381240" cy="38124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Pull-push integration-task branch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stead of merging development branches directly to the integration branch, the integrator creates a “task branch” solely for integrating a set of development branch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integrator then pulls the changes from the development branches to the integration-task branc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fter some testing, the integrator “pushes” the changes on the integration-task branch to the primary int-branc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Keeps the primary int-branch in a pristine &amp; stable state, at the cost of additional trivial branching &amp; merg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Pull-push integration task branch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76360" y="1081080"/>
            <a:ext cx="1752480" cy="4057560"/>
            <a:chOff x="576360" y="1081080"/>
            <a:chExt cx="1752480" cy="4057560"/>
          </a:xfrm>
        </p:grpSpPr>
        <p:sp>
          <p:nvSpPr>
            <p:cNvPr id="329" name=""/>
            <p:cNvSpPr/>
            <p:nvPr/>
          </p:nvSpPr>
          <p:spPr>
            <a:xfrm>
              <a:off x="576360" y="1081080"/>
              <a:ext cx="1752480" cy="8060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 Narrow"/>
                </a:rPr>
                <a:t>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 Narrow"/>
                </a:rPr>
                <a:t>bran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71680" y="1938240"/>
              <a:ext cx="0" cy="320040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305160" y="5191200"/>
            <a:ext cx="2362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integrator pu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010280" y="2705040"/>
            <a:ext cx="1447920" cy="1238760"/>
            <a:chOff x="7010280" y="2705040"/>
            <a:chExt cx="1447920" cy="1238760"/>
          </a:xfrm>
        </p:grpSpPr>
        <p:grpSp>
          <p:nvGrpSpPr>
            <p:cNvPr id="333" name=""/>
            <p:cNvGrpSpPr/>
            <p:nvPr/>
          </p:nvGrpSpPr>
          <p:grpSpPr>
            <a:xfrm>
              <a:off x="7391520" y="2705040"/>
              <a:ext cx="761760" cy="819000"/>
              <a:chOff x="7391520" y="2705040"/>
              <a:chExt cx="761760" cy="819000"/>
            </a:xfrm>
          </p:grpSpPr>
          <p:sp>
            <p:nvSpPr>
              <p:cNvPr id="334" name=""/>
              <p:cNvSpPr/>
              <p:nvPr/>
            </p:nvSpPr>
            <p:spPr>
              <a:xfrm>
                <a:off x="7391520" y="3066840"/>
                <a:ext cx="761760" cy="457200"/>
              </a:xfrm>
              <a:prstGeom prst="parallelogram">
                <a:avLst>
                  <a:gd name="adj" fmla="val 41654"/>
                </a:avLst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696080" y="2705040"/>
                <a:ext cx="381240" cy="304560"/>
              </a:xfrm>
              <a:prstGeom prst="ellipse">
                <a:avLst/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7010280" y="3486240"/>
              <a:ext cx="1447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 Narrow"/>
                </a:rPr>
                <a:t>Develop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257800" y="3333600"/>
            <a:ext cx="1447920" cy="1248120"/>
            <a:chOff x="5257800" y="3333600"/>
            <a:chExt cx="1447920" cy="1248120"/>
          </a:xfrm>
        </p:grpSpPr>
        <p:grpSp>
          <p:nvGrpSpPr>
            <p:cNvPr id="338" name=""/>
            <p:cNvGrpSpPr/>
            <p:nvPr/>
          </p:nvGrpSpPr>
          <p:grpSpPr>
            <a:xfrm>
              <a:off x="5495760" y="3333600"/>
              <a:ext cx="761760" cy="819000"/>
              <a:chOff x="5495760" y="3333600"/>
              <a:chExt cx="761760" cy="819000"/>
            </a:xfrm>
          </p:grpSpPr>
          <p:sp>
            <p:nvSpPr>
              <p:cNvPr id="339" name=""/>
              <p:cNvSpPr/>
              <p:nvPr/>
            </p:nvSpPr>
            <p:spPr>
              <a:xfrm>
                <a:off x="5495760" y="3695400"/>
                <a:ext cx="761760" cy="457200"/>
              </a:xfrm>
              <a:prstGeom prst="parallelogram">
                <a:avLst>
                  <a:gd name="adj" fmla="val 41654"/>
                </a:avLst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800320" y="3333600"/>
                <a:ext cx="381240" cy="304560"/>
              </a:xfrm>
              <a:prstGeom prst="ellipse">
                <a:avLst/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257800" y="4124160"/>
              <a:ext cx="1447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 Narrow"/>
                </a:rPr>
                <a:t>Develop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252440" y="2143080"/>
            <a:ext cx="6567480" cy="1548000"/>
            <a:chOff x="1252440" y="2143080"/>
            <a:chExt cx="6567480" cy="1548000"/>
          </a:xfrm>
        </p:grpSpPr>
        <p:sp>
          <p:nvSpPr>
            <p:cNvPr id="343" name=""/>
            <p:cNvSpPr/>
            <p:nvPr/>
          </p:nvSpPr>
          <p:spPr>
            <a:xfrm>
              <a:off x="1252440" y="2209680"/>
              <a:ext cx="381240" cy="38124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1619280" y="2143080"/>
              <a:ext cx="6200640" cy="1548000"/>
              <a:chOff x="1619280" y="2143080"/>
              <a:chExt cx="6200640" cy="1548000"/>
            </a:xfrm>
          </p:grpSpPr>
          <p:sp>
            <p:nvSpPr>
              <p:cNvPr id="345" name=""/>
              <p:cNvSpPr/>
              <p:nvPr/>
            </p:nvSpPr>
            <p:spPr>
              <a:xfrm>
                <a:off x="6924600" y="2619360"/>
                <a:ext cx="4680" cy="107172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1619280" y="2143080"/>
                <a:ext cx="6200640" cy="426960"/>
                <a:chOff x="1619280" y="2143080"/>
                <a:chExt cx="6200640" cy="4269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039000" y="2143080"/>
                  <a:ext cx="1780920" cy="426960"/>
                </a:xfrm>
                <a:prstGeom prst="rect">
                  <a:avLst/>
                </a:prstGeom>
                <a:solidFill>
                  <a:srgbClr val="ffff99"/>
                </a:solidFill>
                <a:ln w="38160">
                  <a:solidFill>
                    <a:srgbClr val="33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1440" bIns="9144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Arial Narrow"/>
                    </a:rPr>
                    <a:t>private branch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619280" y="2362320"/>
                  <a:ext cx="4400640" cy="0"/>
                </a:xfrm>
                <a:prstGeom prst="line">
                  <a:avLst/>
                </a:prstGeom>
                <a:ln w="38160">
                  <a:solidFill>
                    <a:srgbClr val="33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1440" bIns="-9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9" name=""/>
          <p:cNvGrpSpPr/>
          <p:nvPr/>
        </p:nvGrpSpPr>
        <p:grpSpPr>
          <a:xfrm>
            <a:off x="1252440" y="2752560"/>
            <a:ext cx="4853160" cy="1548000"/>
            <a:chOff x="1252440" y="2752560"/>
            <a:chExt cx="4853160" cy="1548000"/>
          </a:xfrm>
        </p:grpSpPr>
        <p:sp>
          <p:nvSpPr>
            <p:cNvPr id="350" name=""/>
            <p:cNvSpPr/>
            <p:nvPr/>
          </p:nvSpPr>
          <p:spPr>
            <a:xfrm>
              <a:off x="1252440" y="2762280"/>
              <a:ext cx="38124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1657440" y="2752560"/>
              <a:ext cx="4448160" cy="1548000"/>
              <a:chOff x="1657440" y="2752560"/>
              <a:chExt cx="4448160" cy="1548000"/>
            </a:xfrm>
          </p:grpSpPr>
          <p:sp>
            <p:nvSpPr>
              <p:cNvPr id="352" name=""/>
              <p:cNvSpPr/>
              <p:nvPr/>
            </p:nvSpPr>
            <p:spPr>
              <a:xfrm>
                <a:off x="5210280" y="3228840"/>
                <a:ext cx="4680" cy="107172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1657440" y="2752560"/>
                <a:ext cx="4448160" cy="426960"/>
                <a:chOff x="1657440" y="2752560"/>
                <a:chExt cx="4448160" cy="4269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324320" y="2752560"/>
                  <a:ext cx="1781280" cy="426960"/>
                </a:xfrm>
                <a:prstGeom prst="rect">
                  <a:avLst/>
                </a:prstGeom>
                <a:solidFill>
                  <a:srgbClr val="ffff99"/>
                </a:solidFill>
                <a:ln w="38160">
                  <a:solidFill>
                    <a:srgbClr val="33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1440" bIns="9144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Arial Narrow"/>
                    </a:rPr>
                    <a:t>private branch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657440" y="2952720"/>
                  <a:ext cx="2666880" cy="0"/>
                </a:xfrm>
                <a:prstGeom prst="line">
                  <a:avLst/>
                </a:prstGeom>
                <a:ln w="38160">
                  <a:solidFill>
                    <a:srgbClr val="33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1440" bIns="-9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6" name=""/>
          <p:cNvGrpSpPr/>
          <p:nvPr/>
        </p:nvGrpSpPr>
        <p:grpSpPr>
          <a:xfrm>
            <a:off x="1252440" y="3371760"/>
            <a:ext cx="2986200" cy="1938600"/>
            <a:chOff x="1252440" y="3371760"/>
            <a:chExt cx="2986200" cy="1938600"/>
          </a:xfrm>
        </p:grpSpPr>
        <p:sp>
          <p:nvSpPr>
            <p:cNvPr id="357" name=""/>
            <p:cNvSpPr/>
            <p:nvPr/>
          </p:nvSpPr>
          <p:spPr>
            <a:xfrm>
              <a:off x="1252440" y="3371760"/>
              <a:ext cx="381240" cy="38124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647720" y="3514680"/>
              <a:ext cx="2590920" cy="1795680"/>
              <a:chOff x="1647720" y="3514680"/>
              <a:chExt cx="2590920" cy="1795680"/>
            </a:xfrm>
          </p:grpSpPr>
          <p:sp>
            <p:nvSpPr>
              <p:cNvPr id="359" name=""/>
              <p:cNvSpPr/>
              <p:nvPr/>
            </p:nvSpPr>
            <p:spPr>
              <a:xfrm>
                <a:off x="3419640" y="4238640"/>
                <a:ext cx="4680" cy="1071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1647720" y="3514680"/>
                <a:ext cx="2590920" cy="670680"/>
                <a:chOff x="1647720" y="3514680"/>
                <a:chExt cx="2590920" cy="6706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505240" y="3514680"/>
                  <a:ext cx="1733400" cy="670680"/>
                </a:xfrm>
                <a:prstGeom prst="rect">
                  <a:avLst/>
                </a:prstGeom>
                <a:solidFill>
                  <a:srgbClr val="ffccff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1440" bIns="9144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Arial Narrow"/>
                    </a:rPr>
                    <a:t>integration task branch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647720" y="3562200"/>
                  <a:ext cx="838440" cy="152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0" bIns="61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3" name=""/>
          <p:cNvGrpSpPr/>
          <p:nvPr/>
        </p:nvGrpSpPr>
        <p:grpSpPr>
          <a:xfrm>
            <a:off x="1181160" y="5143680"/>
            <a:ext cx="2362320" cy="1162080"/>
            <a:chOff x="1181160" y="5143680"/>
            <a:chExt cx="2362320" cy="1162080"/>
          </a:xfrm>
        </p:grpSpPr>
        <p:sp>
          <p:nvSpPr>
            <p:cNvPr id="364" name=""/>
            <p:cNvSpPr/>
            <p:nvPr/>
          </p:nvSpPr>
          <p:spPr>
            <a:xfrm>
              <a:off x="1247760" y="5143680"/>
              <a:ext cx="38088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181160" y="5543280"/>
              <a:ext cx="2362320" cy="762480"/>
              <a:chOff x="1181160" y="5543280"/>
              <a:chExt cx="2362320" cy="762480"/>
            </a:xfrm>
          </p:grpSpPr>
          <p:cxnSp>
            <p:nvCxnSpPr>
              <p:cNvPr id="366" name=""/>
              <p:cNvCxnSpPr>
                <a:stCxn id="367" idx="4"/>
                <a:endCxn id="364" idx="4"/>
              </p:cNvCxnSpPr>
              <p:nvPr/>
            </p:nvCxnSpPr>
            <p:spPr>
              <a:xfrm flipV="1" rot="16200000">
                <a:off x="2350080" y="4630680"/>
                <a:ext cx="167040" cy="1991520"/>
              </a:xfrm>
              <a:prstGeom prst="curvedConnector5">
                <a:avLst>
                  <a:gd name="adj1" fmla="val -125917"/>
                  <a:gd name="adj2" fmla="val 49990"/>
                  <a:gd name="adj3" fmla="val -125917"/>
                </a:avLst>
              </a:prstGeom>
              <a:ln w="381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368" name=""/>
              <p:cNvSpPr/>
              <p:nvPr/>
            </p:nvSpPr>
            <p:spPr>
              <a:xfrm>
                <a:off x="1181160" y="5848200"/>
                <a:ext cx="2362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 Narrow"/>
                  </a:rPr>
                  <a:t>integrator pus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1943280" y="4419720"/>
            <a:ext cx="1447560" cy="1238760"/>
            <a:chOff x="1943280" y="4419720"/>
            <a:chExt cx="1447560" cy="1238760"/>
          </a:xfrm>
        </p:grpSpPr>
        <p:grpSp>
          <p:nvGrpSpPr>
            <p:cNvPr id="370" name=""/>
            <p:cNvGrpSpPr/>
            <p:nvPr/>
          </p:nvGrpSpPr>
          <p:grpSpPr>
            <a:xfrm>
              <a:off x="2324160" y="4419720"/>
              <a:ext cx="761760" cy="819000"/>
              <a:chOff x="2324160" y="4419720"/>
              <a:chExt cx="761760" cy="819000"/>
            </a:xfrm>
          </p:grpSpPr>
          <p:sp>
            <p:nvSpPr>
              <p:cNvPr id="371" name=""/>
              <p:cNvSpPr/>
              <p:nvPr/>
            </p:nvSpPr>
            <p:spPr>
              <a:xfrm>
                <a:off x="2324160" y="4781520"/>
                <a:ext cx="761760" cy="457200"/>
              </a:xfrm>
              <a:prstGeom prst="parallelogram">
                <a:avLst>
                  <a:gd name="adj" fmla="val 41654"/>
                </a:avLst>
              </a:prstGeom>
              <a:solidFill>
                <a:srgbClr val="ff9999"/>
              </a:solidFill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628720" y="4419720"/>
                <a:ext cx="381240" cy="304560"/>
              </a:xfrm>
              <a:prstGeom prst="ellipse">
                <a:avLst/>
              </a:prstGeom>
              <a:solidFill>
                <a:srgbClr val="ff9999"/>
              </a:solidFill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1943280" y="5200920"/>
              <a:ext cx="1447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5050"/>
                  </a:solidFill>
                  <a:latin typeface="Arial Narrow"/>
                </a:rPr>
                <a:t>Integra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238560" y="4090680"/>
            <a:ext cx="3695760" cy="1828800"/>
            <a:chOff x="3238560" y="4090680"/>
            <a:chExt cx="3695760" cy="1828800"/>
          </a:xfrm>
        </p:grpSpPr>
        <p:sp>
          <p:nvSpPr>
            <p:cNvPr id="367" name=""/>
            <p:cNvSpPr/>
            <p:nvPr/>
          </p:nvSpPr>
          <p:spPr>
            <a:xfrm>
              <a:off x="3238560" y="5310360"/>
              <a:ext cx="380880" cy="380880"/>
            </a:xfrm>
            <a:prstGeom prst="ellipse">
              <a:avLst/>
            </a:prstGeom>
            <a:solidFill>
              <a:srgbClr val="ff66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75" name=""/>
            <p:cNvCxnSpPr>
              <a:stCxn id="376" idx="4"/>
              <a:endCxn id="367" idx="5"/>
            </p:cNvCxnSpPr>
            <p:nvPr/>
          </p:nvCxnSpPr>
          <p:spPr>
            <a:xfrm rot="5400000">
              <a:off x="4466880" y="3187440"/>
              <a:ext cx="1564200" cy="3371040"/>
            </a:xfrm>
            <a:prstGeom prst="curvedConnector5">
              <a:avLst>
                <a:gd name="adj1" fmla="val 116942"/>
                <a:gd name="adj2" fmla="val 49994"/>
                <a:gd name="adj3" fmla="val 116942"/>
              </a:avLst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377" name=""/>
          <p:cNvGrpSpPr/>
          <p:nvPr/>
        </p:nvGrpSpPr>
        <p:grpSpPr>
          <a:xfrm>
            <a:off x="5024520" y="3505320"/>
            <a:ext cx="385560" cy="1176120"/>
            <a:chOff x="5024520" y="3505320"/>
            <a:chExt cx="385560" cy="1176120"/>
          </a:xfrm>
        </p:grpSpPr>
        <p:sp>
          <p:nvSpPr>
            <p:cNvPr id="378" name=""/>
            <p:cNvSpPr/>
            <p:nvPr/>
          </p:nvSpPr>
          <p:spPr>
            <a:xfrm>
              <a:off x="5029200" y="4300560"/>
              <a:ext cx="38088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24520" y="3505320"/>
              <a:ext cx="38088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738840" y="2895480"/>
            <a:ext cx="385920" cy="1176480"/>
            <a:chOff x="6738840" y="2895480"/>
            <a:chExt cx="385920" cy="1176480"/>
          </a:xfrm>
        </p:grpSpPr>
        <p:sp>
          <p:nvSpPr>
            <p:cNvPr id="376" name=""/>
            <p:cNvSpPr/>
            <p:nvPr/>
          </p:nvSpPr>
          <p:spPr>
            <a:xfrm>
              <a:off x="6743880" y="3691080"/>
              <a:ext cx="38088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38840" y="2895480"/>
              <a:ext cx="381240" cy="38124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33880" y="4514760"/>
            <a:ext cx="1985760" cy="610200"/>
            <a:chOff x="3233880" y="4514760"/>
            <a:chExt cx="1985760" cy="610200"/>
          </a:xfrm>
        </p:grpSpPr>
        <p:sp>
          <p:nvSpPr>
            <p:cNvPr id="383" name=""/>
            <p:cNvSpPr/>
            <p:nvPr/>
          </p:nvSpPr>
          <p:spPr>
            <a:xfrm>
              <a:off x="3233880" y="4514760"/>
              <a:ext cx="380880" cy="381240"/>
            </a:xfrm>
            <a:prstGeom prst="ellipse">
              <a:avLst/>
            </a:prstGeom>
            <a:solidFill>
              <a:srgbClr val="ff66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84" name=""/>
            <p:cNvCxnSpPr>
              <a:stCxn id="378" idx="4"/>
              <a:endCxn id="383" idx="5"/>
            </p:cNvCxnSpPr>
            <p:nvPr/>
          </p:nvCxnSpPr>
          <p:spPr>
            <a:xfrm rot="5400000">
              <a:off x="4309560" y="3949560"/>
              <a:ext cx="159480" cy="1661040"/>
            </a:xfrm>
            <a:prstGeom prst="curvedConnector5">
              <a:avLst>
                <a:gd name="adj1" fmla="val 266968"/>
                <a:gd name="adj2" fmla="val 49989"/>
                <a:gd name="adj3" fmla="val 266968"/>
              </a:avLst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Push-pull “docking” branch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ies to “balance” the push-vs-pull tension by combining the best of each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velopers base their changes of a stable int-branch, and push (“dock”) their changes to an intermediate int-bran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grator regularly builds &amp; tests the state of the docking branch and pulls its changes to the stable int-bran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lows more choices for productivity vs stability ris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llows developers a choice of which branch to base changes on and how stable they need their baselevel to b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llows integrators the choice of pulling from the docking-line, or the individual dev-branches on a case-by-case bas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elps avoid “throw it over the wall” without sacrificing st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Push-pull “docking” branch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804960" y="1081080"/>
            <a:ext cx="1752480" cy="4057560"/>
            <a:chOff x="804960" y="1081080"/>
            <a:chExt cx="1752480" cy="4057560"/>
          </a:xfrm>
        </p:grpSpPr>
        <p:sp>
          <p:nvSpPr>
            <p:cNvPr id="389" name=""/>
            <p:cNvSpPr/>
            <p:nvPr/>
          </p:nvSpPr>
          <p:spPr>
            <a:xfrm>
              <a:off x="804960" y="1081080"/>
              <a:ext cx="1752480" cy="8060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 Narrow"/>
                </a:rPr>
                <a:t>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 Narrow"/>
                </a:rPr>
                <a:t>bran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00280" y="1938240"/>
              <a:ext cx="0" cy="320040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3952800" y="5581800"/>
            <a:ext cx="2362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developer pu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238880" y="3390840"/>
            <a:ext cx="1447920" cy="1238760"/>
            <a:chOff x="7238880" y="3390840"/>
            <a:chExt cx="1447920" cy="1238760"/>
          </a:xfrm>
        </p:grpSpPr>
        <p:grpSp>
          <p:nvGrpSpPr>
            <p:cNvPr id="393" name=""/>
            <p:cNvGrpSpPr/>
            <p:nvPr/>
          </p:nvGrpSpPr>
          <p:grpSpPr>
            <a:xfrm>
              <a:off x="7620120" y="3390840"/>
              <a:ext cx="761760" cy="819000"/>
              <a:chOff x="7620120" y="3390840"/>
              <a:chExt cx="761760" cy="819000"/>
            </a:xfrm>
          </p:grpSpPr>
          <p:sp>
            <p:nvSpPr>
              <p:cNvPr id="394" name=""/>
              <p:cNvSpPr/>
              <p:nvPr/>
            </p:nvSpPr>
            <p:spPr>
              <a:xfrm>
                <a:off x="7620120" y="3752640"/>
                <a:ext cx="761760" cy="457200"/>
              </a:xfrm>
              <a:prstGeom prst="parallelogram">
                <a:avLst>
                  <a:gd name="adj" fmla="val 41654"/>
                </a:avLst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924680" y="3390840"/>
                <a:ext cx="381240" cy="304560"/>
              </a:xfrm>
              <a:prstGeom prst="ellipse">
                <a:avLst/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7238880" y="4172040"/>
              <a:ext cx="1447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 Narrow"/>
                </a:rPr>
                <a:t>Develop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000680" y="3981600"/>
            <a:ext cx="1447560" cy="1238400"/>
            <a:chOff x="4000680" y="3981600"/>
            <a:chExt cx="1447560" cy="1238400"/>
          </a:xfrm>
        </p:grpSpPr>
        <p:grpSp>
          <p:nvGrpSpPr>
            <p:cNvPr id="398" name=""/>
            <p:cNvGrpSpPr/>
            <p:nvPr/>
          </p:nvGrpSpPr>
          <p:grpSpPr>
            <a:xfrm>
              <a:off x="4381560" y="3981600"/>
              <a:ext cx="761760" cy="819000"/>
              <a:chOff x="4381560" y="3981600"/>
              <a:chExt cx="761760" cy="819000"/>
            </a:xfrm>
          </p:grpSpPr>
          <p:sp>
            <p:nvSpPr>
              <p:cNvPr id="399" name=""/>
              <p:cNvSpPr/>
              <p:nvPr/>
            </p:nvSpPr>
            <p:spPr>
              <a:xfrm>
                <a:off x="4381560" y="4343400"/>
                <a:ext cx="761760" cy="457200"/>
              </a:xfrm>
              <a:prstGeom prst="parallelogram">
                <a:avLst>
                  <a:gd name="adj" fmla="val 41654"/>
                </a:avLst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686120" y="3981600"/>
                <a:ext cx="381240" cy="304560"/>
              </a:xfrm>
              <a:prstGeom prst="ellipse">
                <a:avLst/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4000680" y="4762440"/>
              <a:ext cx="1447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 Narrow"/>
                </a:rPr>
                <a:t>Develop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009960" y="4776840"/>
            <a:ext cx="4152960" cy="1143000"/>
            <a:chOff x="3009960" y="4776840"/>
            <a:chExt cx="4152960" cy="1143000"/>
          </a:xfrm>
        </p:grpSpPr>
        <p:cxnSp>
          <p:nvCxnSpPr>
            <p:cNvPr id="403" name=""/>
            <p:cNvCxnSpPr>
              <a:stCxn id="404" idx="4"/>
              <a:endCxn id="405" idx="5"/>
            </p:cNvCxnSpPr>
            <p:nvPr/>
          </p:nvCxnSpPr>
          <p:spPr>
            <a:xfrm rot="5400000">
              <a:off x="4809600" y="3301920"/>
              <a:ext cx="878400" cy="3828240"/>
            </a:xfrm>
            <a:prstGeom prst="curvedConnector5">
              <a:avLst>
                <a:gd name="adj1" fmla="val 130176"/>
                <a:gd name="adj2" fmla="val 49995"/>
                <a:gd name="adj3" fmla="val 130176"/>
              </a:avLst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405" name=""/>
            <p:cNvSpPr/>
            <p:nvPr/>
          </p:nvSpPr>
          <p:spPr>
            <a:xfrm>
              <a:off x="3009960" y="5310360"/>
              <a:ext cx="380880" cy="380880"/>
            </a:xfrm>
            <a:prstGeom prst="ellipse">
              <a:avLst/>
            </a:prstGeom>
            <a:solidFill>
              <a:srgbClr val="ff66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181160" y="5143680"/>
            <a:ext cx="2362320" cy="1162080"/>
            <a:chOff x="1181160" y="5143680"/>
            <a:chExt cx="2362320" cy="1162080"/>
          </a:xfrm>
        </p:grpSpPr>
        <p:sp>
          <p:nvSpPr>
            <p:cNvPr id="407" name=""/>
            <p:cNvSpPr/>
            <p:nvPr/>
          </p:nvSpPr>
          <p:spPr>
            <a:xfrm>
              <a:off x="1476360" y="5143680"/>
              <a:ext cx="38088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1181160" y="5543280"/>
              <a:ext cx="2362320" cy="762480"/>
              <a:chOff x="1181160" y="5543280"/>
              <a:chExt cx="2362320" cy="762480"/>
            </a:xfrm>
          </p:grpSpPr>
          <p:cxnSp>
            <p:nvCxnSpPr>
              <p:cNvPr id="409" name=""/>
              <p:cNvCxnSpPr>
                <a:stCxn id="405" idx="4"/>
                <a:endCxn id="407" idx="4"/>
              </p:cNvCxnSpPr>
              <p:nvPr/>
            </p:nvCxnSpPr>
            <p:spPr>
              <a:xfrm flipV="1" rot="16200000">
                <a:off x="2350080" y="4859280"/>
                <a:ext cx="167040" cy="1534320"/>
              </a:xfrm>
              <a:prstGeom prst="curvedConnector5">
                <a:avLst>
                  <a:gd name="adj1" fmla="val -125917"/>
                  <a:gd name="adj2" fmla="val 49988"/>
                  <a:gd name="adj3" fmla="val -125917"/>
                </a:avLst>
              </a:prstGeom>
              <a:ln w="381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410" name=""/>
              <p:cNvSpPr/>
              <p:nvPr/>
            </p:nvSpPr>
            <p:spPr>
              <a:xfrm>
                <a:off x="1181160" y="5848200"/>
                <a:ext cx="2362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 Narrow"/>
                  </a:rPr>
                  <a:t>Integrator pul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304920" y="4019400"/>
            <a:ext cx="1447560" cy="1238760"/>
            <a:chOff x="304920" y="4019400"/>
            <a:chExt cx="1447560" cy="1238760"/>
          </a:xfrm>
        </p:grpSpPr>
        <p:grpSp>
          <p:nvGrpSpPr>
            <p:cNvPr id="412" name=""/>
            <p:cNvGrpSpPr/>
            <p:nvPr/>
          </p:nvGrpSpPr>
          <p:grpSpPr>
            <a:xfrm>
              <a:off x="685800" y="4019400"/>
              <a:ext cx="761760" cy="819000"/>
              <a:chOff x="685800" y="4019400"/>
              <a:chExt cx="761760" cy="819000"/>
            </a:xfrm>
          </p:grpSpPr>
          <p:sp>
            <p:nvSpPr>
              <p:cNvPr id="413" name=""/>
              <p:cNvSpPr/>
              <p:nvPr/>
            </p:nvSpPr>
            <p:spPr>
              <a:xfrm>
                <a:off x="685800" y="4381200"/>
                <a:ext cx="761760" cy="457200"/>
              </a:xfrm>
              <a:prstGeom prst="parallelogram">
                <a:avLst>
                  <a:gd name="adj" fmla="val 41654"/>
                </a:avLst>
              </a:prstGeom>
              <a:solidFill>
                <a:srgbClr val="ff9999"/>
              </a:solidFill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990360" y="4019400"/>
                <a:ext cx="381240" cy="304560"/>
              </a:xfrm>
              <a:prstGeom prst="ellipse">
                <a:avLst/>
              </a:prstGeom>
              <a:solidFill>
                <a:srgbClr val="ff9999"/>
              </a:solidFill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304920" y="4800600"/>
              <a:ext cx="1447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5050"/>
                  </a:solidFill>
                  <a:latin typeface="Arial Narrow"/>
                </a:rPr>
                <a:t>Integra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481040" y="2009880"/>
            <a:ext cx="2557440" cy="3300480"/>
            <a:chOff x="1481040" y="2009880"/>
            <a:chExt cx="2557440" cy="3300480"/>
          </a:xfrm>
        </p:grpSpPr>
        <p:sp>
          <p:nvSpPr>
            <p:cNvPr id="417" name=""/>
            <p:cNvSpPr/>
            <p:nvPr/>
          </p:nvSpPr>
          <p:spPr>
            <a:xfrm flipH="1">
              <a:off x="3195360" y="2743200"/>
              <a:ext cx="4680" cy="256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828800" y="2009880"/>
              <a:ext cx="2209680" cy="670680"/>
              <a:chOff x="1828800" y="2009880"/>
              <a:chExt cx="2209680" cy="670680"/>
            </a:xfrm>
          </p:grpSpPr>
          <p:sp>
            <p:nvSpPr>
              <p:cNvPr id="419" name=""/>
              <p:cNvSpPr/>
              <p:nvPr/>
            </p:nvSpPr>
            <p:spPr>
              <a:xfrm>
                <a:off x="2305080" y="2009880"/>
                <a:ext cx="1733400" cy="670680"/>
              </a:xfrm>
              <a:prstGeom prst="rect">
                <a:avLst/>
              </a:prstGeom>
              <a:solidFill>
                <a:srgbClr val="ffcc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 Narrow"/>
                  </a:rPr>
                  <a:t>docking branc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828800" y="236232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1440" bIns="-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1481040" y="2171880"/>
              <a:ext cx="38124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481040" y="2762280"/>
            <a:ext cx="6567480" cy="1614600"/>
            <a:chOff x="1481040" y="2762280"/>
            <a:chExt cx="6567480" cy="1614600"/>
          </a:xfrm>
        </p:grpSpPr>
        <p:sp>
          <p:nvSpPr>
            <p:cNvPr id="423" name=""/>
            <p:cNvSpPr/>
            <p:nvPr/>
          </p:nvSpPr>
          <p:spPr>
            <a:xfrm>
              <a:off x="7153200" y="3305160"/>
              <a:ext cx="4680" cy="107172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81040" y="2762280"/>
              <a:ext cx="38124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1847880" y="2828880"/>
              <a:ext cx="6200640" cy="426960"/>
              <a:chOff x="1847880" y="2828880"/>
              <a:chExt cx="6200640" cy="426960"/>
            </a:xfrm>
          </p:grpSpPr>
          <p:sp>
            <p:nvSpPr>
              <p:cNvPr id="426" name=""/>
              <p:cNvSpPr/>
              <p:nvPr/>
            </p:nvSpPr>
            <p:spPr>
              <a:xfrm>
                <a:off x="6267600" y="2828880"/>
                <a:ext cx="1780920" cy="42696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 Narrow"/>
                  </a:rPr>
                  <a:t>private branc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847880" y="2933640"/>
                <a:ext cx="4419720" cy="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1440" bIns="-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1481040" y="3371760"/>
            <a:ext cx="4853160" cy="1614600"/>
            <a:chOff x="1481040" y="3371760"/>
            <a:chExt cx="4853160" cy="1614600"/>
          </a:xfrm>
        </p:grpSpPr>
        <p:sp>
          <p:nvSpPr>
            <p:cNvPr id="429" name=""/>
            <p:cNvSpPr/>
            <p:nvPr/>
          </p:nvSpPr>
          <p:spPr>
            <a:xfrm>
              <a:off x="5438880" y="3914640"/>
              <a:ext cx="4680" cy="107172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81040" y="3371760"/>
              <a:ext cx="381240" cy="38124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1866960" y="3438360"/>
              <a:ext cx="4467240" cy="426960"/>
              <a:chOff x="1866960" y="3438360"/>
              <a:chExt cx="4467240" cy="426960"/>
            </a:xfrm>
          </p:grpSpPr>
          <p:sp>
            <p:nvSpPr>
              <p:cNvPr id="432" name=""/>
              <p:cNvSpPr/>
              <p:nvPr/>
            </p:nvSpPr>
            <p:spPr>
              <a:xfrm>
                <a:off x="4552920" y="3438360"/>
                <a:ext cx="1781280" cy="42696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 Narrow"/>
                  </a:rPr>
                  <a:t>private branc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866960" y="3562200"/>
                <a:ext cx="2666880" cy="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1440" bIns="-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" name=""/>
          <p:cNvGrpSpPr/>
          <p:nvPr/>
        </p:nvGrpSpPr>
        <p:grpSpPr>
          <a:xfrm>
            <a:off x="3005280" y="4514760"/>
            <a:ext cx="2442960" cy="1081080"/>
            <a:chOff x="3005280" y="4514760"/>
            <a:chExt cx="2442960" cy="1081080"/>
          </a:xfrm>
        </p:grpSpPr>
        <p:cxnSp>
          <p:nvCxnSpPr>
            <p:cNvPr id="435" name=""/>
            <p:cNvCxnSpPr>
              <a:stCxn id="436" idx="4"/>
              <a:endCxn id="437" idx="5"/>
            </p:cNvCxnSpPr>
            <p:nvPr/>
          </p:nvCxnSpPr>
          <p:spPr>
            <a:xfrm flipV="1" rot="16200000">
              <a:off x="4125600" y="4063320"/>
              <a:ext cx="527760" cy="2118240"/>
            </a:xfrm>
            <a:prstGeom prst="curvedConnector5">
              <a:avLst>
                <a:gd name="adj1" fmla="val -39726"/>
                <a:gd name="adj2" fmla="val 49991"/>
                <a:gd name="adj3" fmla="val -39726"/>
              </a:avLst>
            </a:prstGeom>
            <a:ln w="38160">
              <a:solidFill>
                <a:srgbClr val="ffff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437" name=""/>
            <p:cNvSpPr/>
            <p:nvPr/>
          </p:nvSpPr>
          <p:spPr>
            <a:xfrm>
              <a:off x="3005280" y="4514760"/>
              <a:ext cx="380880" cy="381240"/>
            </a:xfrm>
            <a:prstGeom prst="ellipse">
              <a:avLst/>
            </a:prstGeom>
            <a:solidFill>
              <a:srgbClr val="ff66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253120" y="4191120"/>
            <a:ext cx="385560" cy="1176120"/>
            <a:chOff x="5253120" y="4191120"/>
            <a:chExt cx="385560" cy="1176120"/>
          </a:xfrm>
        </p:grpSpPr>
        <p:sp>
          <p:nvSpPr>
            <p:cNvPr id="436" name=""/>
            <p:cNvSpPr/>
            <p:nvPr/>
          </p:nvSpPr>
          <p:spPr>
            <a:xfrm>
              <a:off x="5257800" y="4986360"/>
              <a:ext cx="38088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53120" y="4191120"/>
              <a:ext cx="38088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6972480" y="4376880"/>
            <a:ext cx="380880" cy="3808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67440" y="3581280"/>
            <a:ext cx="381240" cy="38124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Integration lock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0000"/>
          </a:bodyPr>
          <a:p>
            <a:pPr marL="311040" indent="-31104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f have multiple developers “pushing” changes, or multiple integrators “pulling changes” need to worry about overlapping/inconsistent changes getting merged back at the same ti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62760" indent="-24840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ne solution is to ensure that only one change is merged-back at any given ti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62760" indent="-24840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ut locking the int-branch can only be done by the branch-owner or VOB own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11040" indent="-31104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stead of locking, use an attribute or hyperlink on the brtype, and have a pre-op trigger prevent co/ci unless the executing user “holds” the “integration lock” attr/hlin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11040" indent="-31104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erge-back happens as an atomic “commit” transa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11040" indent="-31104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Arial Narrow"/>
              </a:rPr>
              <a:t>Don’t forget to “relinquish” the lock when done merging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Partial integration lock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at if “integration lock” is too coarse-grained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y have many developers pushing their change-sets at the same time, but will very rarely overlap or conflic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rializing merge-back to the entire int-branch may defeat the purpose of parallel branching in such cas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ly lock “integration” for the set of elements to mer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 a hyperlink as the “integration” lock (can attach multiple hlinks to a brtype) and check for overlap between the to-be-merged change-set, and the ones currently being merg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Narrow"/>
              </a:rPr>
              <a:t>AND/OR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do a reserved checkout for each element to merge </a:t>
            </a:r>
            <a:r>
              <a:rPr b="0" i="1" lang="en-US" sz="2800" spc="-1" strike="noStrike">
                <a:solidFill>
                  <a:srgbClr val="ffff99"/>
                </a:solidFill>
                <a:latin typeface="Arial Narrow"/>
              </a:rPr>
              <a:t>before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doing any merges; abort if can’t reserve all of th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Checkpoint after merge-back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34640" cy="58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7000"/>
          </a:bodyPr>
          <a:p>
            <a:pPr marL="332640" indent="-33264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cking-out already merged changes should be rare, but can be painful and time consum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agging merge-results makes it easier to find &amp; fix the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97920" indent="-3326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 Narrow"/>
              </a:rPr>
              <a:t>First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- merge the changes to the integration bran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7920" indent="-33264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 Narrow"/>
              </a:rPr>
              <a:t>The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- mark only the newly merged versions (the merge-set) using a label or attribute (label is most visible in vtree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7920" indent="-33264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ag merge-set using “simulated -mklabel” or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eartool fin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ives you the option of doing a </a:t>
            </a:r>
            <a:r>
              <a:rPr b="0" i="1" lang="en-US" sz="3200" spc="-1" strike="noStrike">
                <a:solidFill>
                  <a:srgbClr val="33ccff"/>
                </a:solidFill>
                <a:latin typeface="Arial Narrow"/>
              </a:rPr>
              <a:t>subtractive merg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on the unwanted merge-set </a:t>
            </a:r>
            <a:r>
              <a:rPr b="0" lang="en-US" sz="3200" spc="-1" strike="noStrike">
                <a:solidFill>
                  <a:srgbClr val="66ffff"/>
                </a:solidFill>
                <a:latin typeface="Arial Narrow"/>
              </a:rPr>
              <a:t>AND/OR</a:t>
            </a:r>
            <a:r>
              <a:rPr b="0" i="1" lang="en-US" sz="3200" spc="-1" strike="noStrike">
                <a:solidFill>
                  <a:srgbClr val="33cc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you can still correct the build “on line” or on a new branc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king the merge-set makes a useful reference point in diffs and vtre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Checkpoint after merge-back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7086600" y="3200400"/>
            <a:ext cx="1295280" cy="1238400"/>
            <a:chOff x="7086600" y="3200400"/>
            <a:chExt cx="1295280" cy="1238400"/>
          </a:xfrm>
        </p:grpSpPr>
        <p:grpSp>
          <p:nvGrpSpPr>
            <p:cNvPr id="449" name=""/>
            <p:cNvGrpSpPr/>
            <p:nvPr/>
          </p:nvGrpSpPr>
          <p:grpSpPr>
            <a:xfrm>
              <a:off x="7448400" y="3200400"/>
              <a:ext cx="761760" cy="819000"/>
              <a:chOff x="7448400" y="3200400"/>
              <a:chExt cx="761760" cy="819000"/>
            </a:xfrm>
          </p:grpSpPr>
          <p:sp>
            <p:nvSpPr>
              <p:cNvPr id="450" name=""/>
              <p:cNvSpPr/>
              <p:nvPr/>
            </p:nvSpPr>
            <p:spPr>
              <a:xfrm>
                <a:off x="7448400" y="3562200"/>
                <a:ext cx="761760" cy="457200"/>
              </a:xfrm>
              <a:prstGeom prst="parallelogram">
                <a:avLst>
                  <a:gd name="adj" fmla="val 41654"/>
                </a:avLst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752960" y="3200400"/>
                <a:ext cx="381240" cy="304560"/>
              </a:xfrm>
              <a:prstGeom prst="ellipse">
                <a:avLst/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7086600" y="3981240"/>
              <a:ext cx="1295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 Narrow"/>
                </a:rPr>
                <a:t>Develop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195640" y="1119240"/>
            <a:ext cx="1752480" cy="4019400"/>
            <a:chOff x="2195640" y="1119240"/>
            <a:chExt cx="1752480" cy="4019400"/>
          </a:xfrm>
        </p:grpSpPr>
        <p:sp>
          <p:nvSpPr>
            <p:cNvPr id="454" name=""/>
            <p:cNvSpPr/>
            <p:nvPr/>
          </p:nvSpPr>
          <p:spPr>
            <a:xfrm>
              <a:off x="2195640" y="1119240"/>
              <a:ext cx="1752480" cy="76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 Narrow"/>
                </a:rPr>
                <a:t>integration bran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90960" y="1938240"/>
              <a:ext cx="0" cy="320040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800440" y="5143680"/>
            <a:ext cx="3742920" cy="800280"/>
            <a:chOff x="2800440" y="5143680"/>
            <a:chExt cx="3742920" cy="800280"/>
          </a:xfrm>
        </p:grpSpPr>
        <p:grpSp>
          <p:nvGrpSpPr>
            <p:cNvPr id="457" name=""/>
            <p:cNvGrpSpPr/>
            <p:nvPr/>
          </p:nvGrpSpPr>
          <p:grpSpPr>
            <a:xfrm>
              <a:off x="3263040" y="5214960"/>
              <a:ext cx="3280320" cy="729000"/>
              <a:chOff x="3263040" y="5214960"/>
              <a:chExt cx="3280320" cy="729000"/>
            </a:xfrm>
          </p:grpSpPr>
          <p:cxnSp>
            <p:nvCxnSpPr>
              <p:cNvPr id="458" name=""/>
              <p:cNvCxnSpPr>
                <a:stCxn id="459" idx="4"/>
                <a:endCxn id="460" idx="5"/>
              </p:cNvCxnSpPr>
              <p:nvPr/>
            </p:nvCxnSpPr>
            <p:spPr>
              <a:xfrm rot="5400000">
                <a:off x="4685400" y="3792240"/>
                <a:ext cx="435600" cy="3280680"/>
              </a:xfrm>
              <a:prstGeom prst="curvedConnector5">
                <a:avLst>
                  <a:gd name="adj1" fmla="val 167493"/>
                  <a:gd name="adj2" fmla="val 50000"/>
                  <a:gd name="adj3" fmla="val 167493"/>
                </a:avLst>
              </a:prstGeom>
              <a:ln w="3816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461" name=""/>
              <p:cNvSpPr/>
              <p:nvPr/>
            </p:nvSpPr>
            <p:spPr>
              <a:xfrm>
                <a:off x="3581280" y="5410080"/>
                <a:ext cx="236232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 Narrow"/>
                  </a:rPr>
                  <a:t> 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Arial Narrow"/>
                  </a:rPr>
                  <a:t>merge bac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2800440" y="5143680"/>
              <a:ext cx="542880" cy="57132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895480" y="4019400"/>
            <a:ext cx="381240" cy="38124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890800" y="2476440"/>
            <a:ext cx="4548240" cy="2381400"/>
            <a:chOff x="2890800" y="2476440"/>
            <a:chExt cx="4548240" cy="2381400"/>
          </a:xfrm>
        </p:grpSpPr>
        <p:sp>
          <p:nvSpPr>
            <p:cNvPr id="464" name=""/>
            <p:cNvSpPr/>
            <p:nvPr/>
          </p:nvSpPr>
          <p:spPr>
            <a:xfrm>
              <a:off x="2890800" y="2476440"/>
              <a:ext cx="380880" cy="38124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3305160" y="2523960"/>
              <a:ext cx="4133880" cy="2333880"/>
              <a:chOff x="3305160" y="2523960"/>
              <a:chExt cx="4133880" cy="2333880"/>
            </a:xfrm>
          </p:grpSpPr>
          <p:sp>
            <p:nvSpPr>
              <p:cNvPr id="466" name=""/>
              <p:cNvSpPr/>
              <p:nvPr/>
            </p:nvSpPr>
            <p:spPr>
              <a:xfrm>
                <a:off x="6543720" y="2990880"/>
                <a:ext cx="9360" cy="186696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3305160" y="2523960"/>
                <a:ext cx="4133880" cy="426960"/>
                <a:chOff x="3305160" y="2523960"/>
                <a:chExt cx="4133880" cy="4269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657760" y="2523960"/>
                  <a:ext cx="1781280" cy="426960"/>
                </a:xfrm>
                <a:prstGeom prst="rect">
                  <a:avLst/>
                </a:prstGeom>
                <a:solidFill>
                  <a:srgbClr val="ffff99"/>
                </a:solidFill>
                <a:ln w="38160">
                  <a:solidFill>
                    <a:srgbClr val="33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1440" bIns="9144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Arial Narrow"/>
                    </a:rPr>
                    <a:t>private branch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305160" y="2666880"/>
                  <a:ext cx="2343240" cy="0"/>
                </a:xfrm>
                <a:prstGeom prst="line">
                  <a:avLst/>
                </a:prstGeom>
                <a:ln w="38160">
                  <a:solidFill>
                    <a:srgbClr val="33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1440" bIns="-9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9" name=""/>
          <p:cNvSpPr/>
          <p:nvPr/>
        </p:nvSpPr>
        <p:spPr>
          <a:xfrm>
            <a:off x="6353280" y="4815000"/>
            <a:ext cx="380880" cy="3808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348240" y="3295800"/>
            <a:ext cx="381240" cy="1143000"/>
            <a:chOff x="6348240" y="3295800"/>
            <a:chExt cx="381240" cy="1143000"/>
          </a:xfrm>
        </p:grpSpPr>
        <p:sp>
          <p:nvSpPr>
            <p:cNvPr id="471" name=""/>
            <p:cNvSpPr/>
            <p:nvPr/>
          </p:nvSpPr>
          <p:spPr>
            <a:xfrm>
              <a:off x="6348240" y="3295800"/>
              <a:ext cx="38124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48240" y="4057560"/>
              <a:ext cx="381240" cy="38124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472840" y="5219640"/>
            <a:ext cx="1340640" cy="457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MRG_C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Rebase before merge-back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7000"/>
          </a:bodyPr>
          <a:p>
            <a:pPr marL="332640" indent="-33264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en employing “developer-push” model, want to minimize risk &amp; complexity of merges to int-branc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mon solution is to “rebase” before merging bac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97920" indent="-3326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 Narrow"/>
              </a:rPr>
              <a:t>First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- edit cspec to  replace old base-selector with the new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7920" indent="-3326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 Narrow"/>
              </a:rPr>
              <a:t>The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- merge from the new baselevel to the dev-bran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7920" indent="-3326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ccff"/>
                </a:solidFill>
                <a:latin typeface="Arial Narrow"/>
              </a:rPr>
              <a:t>Don’t forget step one or you will merge too much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sures that merging to the int-branch is as trivial as possible (the “heavy lifting” occurs on the dev-branch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rces recent changes to be reconciled together sooner &amp; keeps developers more aware of others activiti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ossibly increased risk of merging in “tainted” changes (but it happens on dev-branch instead of the int-branch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Professional background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5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rad Appleton, Lead Software Engineer, Motorola N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975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CM tool development (commercial &amp; “in house”) since </a:t>
            </a: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1988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975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CM implementation using ClearCase at Motorola since </a:t>
            </a: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1995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ave been conducting a multi-year study of “best practices” for using SCM tools like ClearC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9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sentation material comes from my ACME project at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 Narrow"/>
              </a:rPr>
              <a:t>http://www.enteract.com/~bradapp/ac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 Narrow"/>
              </a:rPr>
              <a:t>(see “</a:t>
            </a:r>
            <a:r>
              <a:rPr b="0" i="1" lang="en-US" sz="2400" spc="-1" strike="noStrike">
                <a:solidFill>
                  <a:srgbClr val="33ccff"/>
                </a:solidFill>
                <a:latin typeface="Arial Narrow"/>
              </a:rPr>
              <a:t>Streamed Lines</a:t>
            </a:r>
            <a:r>
              <a:rPr b="0" lang="en-US" sz="2400" spc="-1" strike="noStrike">
                <a:solidFill>
                  <a:srgbClr val="33ccff"/>
                </a:solidFill>
                <a:latin typeface="Arial Narrow"/>
              </a:rPr>
              <a:t>” and “</a:t>
            </a:r>
            <a:r>
              <a:rPr b="0" i="1" lang="en-US" sz="2400" spc="-1" strike="noStrike">
                <a:solidFill>
                  <a:srgbClr val="33ccff"/>
                </a:solidFill>
                <a:latin typeface="Arial Narrow"/>
              </a:rPr>
              <a:t>Common ClearCase Practices</a:t>
            </a:r>
            <a:r>
              <a:rPr b="0" lang="en-US" sz="2400" spc="-1" strike="noStrike">
                <a:solidFill>
                  <a:srgbClr val="33ccff"/>
                </a:solidFill>
                <a:latin typeface="Arial Narrow"/>
              </a:rPr>
              <a:t>”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oal is to document &amp; disseminate SCM “best practices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You can help by sharing your war stories &amp; best pract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Rebase before merge-back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7086600" y="3200400"/>
            <a:ext cx="1295280" cy="1238400"/>
            <a:chOff x="7086600" y="3200400"/>
            <a:chExt cx="1295280" cy="1238400"/>
          </a:xfrm>
        </p:grpSpPr>
        <p:grpSp>
          <p:nvGrpSpPr>
            <p:cNvPr id="478" name=""/>
            <p:cNvGrpSpPr/>
            <p:nvPr/>
          </p:nvGrpSpPr>
          <p:grpSpPr>
            <a:xfrm>
              <a:off x="7448400" y="3200400"/>
              <a:ext cx="761760" cy="819000"/>
              <a:chOff x="7448400" y="3200400"/>
              <a:chExt cx="761760" cy="819000"/>
            </a:xfrm>
          </p:grpSpPr>
          <p:sp>
            <p:nvSpPr>
              <p:cNvPr id="479" name=""/>
              <p:cNvSpPr/>
              <p:nvPr/>
            </p:nvSpPr>
            <p:spPr>
              <a:xfrm>
                <a:off x="7448400" y="3562200"/>
                <a:ext cx="761760" cy="457200"/>
              </a:xfrm>
              <a:prstGeom prst="parallelogram">
                <a:avLst>
                  <a:gd name="adj" fmla="val 41654"/>
                </a:avLst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752960" y="3200400"/>
                <a:ext cx="381240" cy="304560"/>
              </a:xfrm>
              <a:prstGeom prst="ellipse">
                <a:avLst/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7086600" y="3981240"/>
              <a:ext cx="1295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 Narrow"/>
                </a:rPr>
                <a:t>Develop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353280" y="4815000"/>
            <a:ext cx="380880" cy="3808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195640" y="1119240"/>
            <a:ext cx="1752480" cy="4019400"/>
            <a:chOff x="2195640" y="1119240"/>
            <a:chExt cx="1752480" cy="4019400"/>
          </a:xfrm>
        </p:grpSpPr>
        <p:sp>
          <p:nvSpPr>
            <p:cNvPr id="484" name=""/>
            <p:cNvSpPr/>
            <p:nvPr/>
          </p:nvSpPr>
          <p:spPr>
            <a:xfrm>
              <a:off x="2195640" y="1119240"/>
              <a:ext cx="1752480" cy="76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 Narrow"/>
                </a:rPr>
                <a:t>integration bran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90960" y="1938240"/>
              <a:ext cx="1440" cy="320040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762280" y="5143680"/>
            <a:ext cx="3781440" cy="800280"/>
            <a:chOff x="2762280" y="5143680"/>
            <a:chExt cx="3781440" cy="800280"/>
          </a:xfrm>
        </p:grpSpPr>
        <p:grpSp>
          <p:nvGrpSpPr>
            <p:cNvPr id="487" name=""/>
            <p:cNvGrpSpPr/>
            <p:nvPr/>
          </p:nvGrpSpPr>
          <p:grpSpPr>
            <a:xfrm>
              <a:off x="3290400" y="5214960"/>
              <a:ext cx="3253320" cy="729000"/>
              <a:chOff x="3290400" y="5214960"/>
              <a:chExt cx="3253320" cy="729000"/>
            </a:xfrm>
          </p:grpSpPr>
          <p:cxnSp>
            <p:nvCxnSpPr>
              <p:cNvPr id="488" name=""/>
              <p:cNvCxnSpPr>
                <a:stCxn id="482" idx="4"/>
                <a:endCxn id="489" idx="5"/>
              </p:cNvCxnSpPr>
              <p:nvPr/>
            </p:nvCxnSpPr>
            <p:spPr>
              <a:xfrm rot="5400000">
                <a:off x="4699080" y="3805920"/>
                <a:ext cx="435600" cy="3253680"/>
              </a:xfrm>
              <a:prstGeom prst="curvedConnector5">
                <a:avLst>
                  <a:gd name="adj1" fmla="val 167493"/>
                  <a:gd name="adj2" fmla="val 49994"/>
                  <a:gd name="adj3" fmla="val 167493"/>
                </a:avLst>
              </a:prstGeom>
              <a:ln w="3816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490" name=""/>
              <p:cNvSpPr/>
              <p:nvPr/>
            </p:nvSpPr>
            <p:spPr>
              <a:xfrm>
                <a:off x="3657600" y="5410080"/>
                <a:ext cx="236232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 Narrow"/>
                  </a:rPr>
                  <a:t> 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Arial Narrow"/>
                  </a:rPr>
                  <a:t>merge bac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2762280" y="5143680"/>
              <a:ext cx="619200" cy="57132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895480" y="4019400"/>
            <a:ext cx="381240" cy="38124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909880" y="2476440"/>
            <a:ext cx="4529160" cy="2381400"/>
            <a:chOff x="2909880" y="2476440"/>
            <a:chExt cx="4529160" cy="2381400"/>
          </a:xfrm>
        </p:grpSpPr>
        <p:sp>
          <p:nvSpPr>
            <p:cNvPr id="493" name=""/>
            <p:cNvSpPr/>
            <p:nvPr/>
          </p:nvSpPr>
          <p:spPr>
            <a:xfrm>
              <a:off x="6543720" y="2990880"/>
              <a:ext cx="9360" cy="186696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09880" y="2476440"/>
              <a:ext cx="380880" cy="38124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305160" y="2523960"/>
              <a:ext cx="4133880" cy="426960"/>
              <a:chOff x="3305160" y="2523960"/>
              <a:chExt cx="4133880" cy="426960"/>
            </a:xfrm>
          </p:grpSpPr>
          <p:sp>
            <p:nvSpPr>
              <p:cNvPr id="496" name=""/>
              <p:cNvSpPr/>
              <p:nvPr/>
            </p:nvSpPr>
            <p:spPr>
              <a:xfrm>
                <a:off x="5657760" y="2523960"/>
                <a:ext cx="1781280" cy="42696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 Narrow"/>
                  </a:rPr>
                  <a:t>private branc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305160" y="2666880"/>
                <a:ext cx="2343240" cy="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1440" bIns="-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8" name=""/>
          <p:cNvSpPr/>
          <p:nvPr/>
        </p:nvSpPr>
        <p:spPr>
          <a:xfrm>
            <a:off x="6348240" y="3295800"/>
            <a:ext cx="381240" cy="3808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220920" y="3774960"/>
            <a:ext cx="3508560" cy="663840"/>
            <a:chOff x="3220920" y="3774960"/>
            <a:chExt cx="3508560" cy="663840"/>
          </a:xfrm>
        </p:grpSpPr>
        <p:grpSp>
          <p:nvGrpSpPr>
            <p:cNvPr id="500" name=""/>
            <p:cNvGrpSpPr/>
            <p:nvPr/>
          </p:nvGrpSpPr>
          <p:grpSpPr>
            <a:xfrm>
              <a:off x="3220920" y="3774960"/>
              <a:ext cx="3183480" cy="512280"/>
              <a:chOff x="3220920" y="3774960"/>
              <a:chExt cx="3183480" cy="512280"/>
            </a:xfrm>
          </p:grpSpPr>
          <p:cxnSp>
            <p:nvCxnSpPr>
              <p:cNvPr id="501" name=""/>
              <p:cNvCxnSpPr>
                <a:stCxn id="491" idx="7"/>
                <a:endCxn id="502" idx="1"/>
              </p:cNvCxnSpPr>
              <p:nvPr/>
            </p:nvCxnSpPr>
            <p:spPr>
              <a:xfrm flipH="1" rot="16200000">
                <a:off x="4793400" y="2483280"/>
                <a:ext cx="38880" cy="3183840"/>
              </a:xfrm>
              <a:prstGeom prst="curvedConnector5">
                <a:avLst>
                  <a:gd name="adj1" fmla="val -695327"/>
                  <a:gd name="adj2" fmla="val 49994"/>
                  <a:gd name="adj3" fmla="val -695327"/>
                </a:avLst>
              </a:prstGeom>
              <a:ln w="38160">
                <a:solidFill>
                  <a:srgbClr val="ff6699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503" name=""/>
              <p:cNvSpPr/>
              <p:nvPr/>
            </p:nvSpPr>
            <p:spPr>
              <a:xfrm>
                <a:off x="3733920" y="3774960"/>
                <a:ext cx="23619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99"/>
                    </a:solidFill>
                    <a:latin typeface="Arial Narrow"/>
                  </a:rPr>
                  <a:t>reba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6348240" y="4057560"/>
              <a:ext cx="381240" cy="38124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458440" y="5218200"/>
            <a:ext cx="1340640" cy="457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MRG_C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Checkpoint before rebase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at if a rebase completely disrupts the stability of my branch/view at the time of the merge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eckpoint before rebasing so you can easily “rollback” to the last “good state” of the branch/view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ral possible ways of checkpointing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abel the state of the development bran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abel the state of the entire view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 an attribute or hyperlink to record a timestamp for the branch, or for the entire cspe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Checkpoint before rebase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086600" y="3200400"/>
            <a:ext cx="1295280" cy="1238400"/>
            <a:chOff x="7086600" y="3200400"/>
            <a:chExt cx="1295280" cy="1238400"/>
          </a:xfrm>
        </p:grpSpPr>
        <p:grpSp>
          <p:nvGrpSpPr>
            <p:cNvPr id="509" name=""/>
            <p:cNvGrpSpPr/>
            <p:nvPr/>
          </p:nvGrpSpPr>
          <p:grpSpPr>
            <a:xfrm>
              <a:off x="7448400" y="3200400"/>
              <a:ext cx="761760" cy="819000"/>
              <a:chOff x="7448400" y="3200400"/>
              <a:chExt cx="761760" cy="819000"/>
            </a:xfrm>
          </p:grpSpPr>
          <p:sp>
            <p:nvSpPr>
              <p:cNvPr id="510" name=""/>
              <p:cNvSpPr/>
              <p:nvPr/>
            </p:nvSpPr>
            <p:spPr>
              <a:xfrm>
                <a:off x="7448400" y="3562200"/>
                <a:ext cx="761760" cy="457200"/>
              </a:xfrm>
              <a:prstGeom prst="parallelogram">
                <a:avLst>
                  <a:gd name="adj" fmla="val 41654"/>
                </a:avLst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752960" y="3200400"/>
                <a:ext cx="381240" cy="304560"/>
              </a:xfrm>
              <a:prstGeom prst="ellipse">
                <a:avLst/>
              </a:prstGeom>
              <a:solidFill>
                <a:srgbClr val="eaeaea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7086600" y="3981240"/>
              <a:ext cx="1295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 Narrow"/>
                </a:rPr>
                <a:t>Develop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6353280" y="4815000"/>
            <a:ext cx="380880" cy="3808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2195640" y="1119240"/>
            <a:ext cx="1752480" cy="4019400"/>
            <a:chOff x="2195640" y="1119240"/>
            <a:chExt cx="1752480" cy="4019400"/>
          </a:xfrm>
        </p:grpSpPr>
        <p:sp>
          <p:nvSpPr>
            <p:cNvPr id="515" name=""/>
            <p:cNvSpPr/>
            <p:nvPr/>
          </p:nvSpPr>
          <p:spPr>
            <a:xfrm>
              <a:off x="2195640" y="1119240"/>
              <a:ext cx="1752480" cy="76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 Narrow"/>
                </a:rPr>
                <a:t>integration bran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90960" y="1938240"/>
              <a:ext cx="0" cy="320040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909880" y="2476440"/>
            <a:ext cx="380880" cy="38124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800440" y="5143680"/>
            <a:ext cx="3742920" cy="800280"/>
            <a:chOff x="2800440" y="5143680"/>
            <a:chExt cx="3742920" cy="800280"/>
          </a:xfrm>
        </p:grpSpPr>
        <p:grpSp>
          <p:nvGrpSpPr>
            <p:cNvPr id="519" name=""/>
            <p:cNvGrpSpPr/>
            <p:nvPr/>
          </p:nvGrpSpPr>
          <p:grpSpPr>
            <a:xfrm>
              <a:off x="3263040" y="5214960"/>
              <a:ext cx="3280320" cy="729000"/>
              <a:chOff x="3263040" y="5214960"/>
              <a:chExt cx="3280320" cy="729000"/>
            </a:xfrm>
          </p:grpSpPr>
          <p:cxnSp>
            <p:nvCxnSpPr>
              <p:cNvPr id="520" name=""/>
              <p:cNvCxnSpPr>
                <a:stCxn id="513" idx="4"/>
                <a:endCxn id="521" idx="5"/>
              </p:cNvCxnSpPr>
              <p:nvPr/>
            </p:nvCxnSpPr>
            <p:spPr>
              <a:xfrm rot="5400000">
                <a:off x="4685400" y="3792240"/>
                <a:ext cx="435600" cy="3280680"/>
              </a:xfrm>
              <a:prstGeom prst="curvedConnector5">
                <a:avLst>
                  <a:gd name="adj1" fmla="val 167493"/>
                  <a:gd name="adj2" fmla="val 50000"/>
                  <a:gd name="adj3" fmla="val 167493"/>
                </a:avLst>
              </a:prstGeom>
              <a:ln w="3816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522" name=""/>
              <p:cNvSpPr/>
              <p:nvPr/>
            </p:nvSpPr>
            <p:spPr>
              <a:xfrm>
                <a:off x="3600360" y="5413320"/>
                <a:ext cx="236232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 Narrow"/>
                  </a:rPr>
                  <a:t> 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Arial Narrow"/>
                  </a:rPr>
                  <a:t>merge bac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2800440" y="5143680"/>
              <a:ext cx="542880" cy="57132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895480" y="4019400"/>
            <a:ext cx="381240" cy="38124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305160" y="2523960"/>
            <a:ext cx="4133880" cy="2333880"/>
            <a:chOff x="3305160" y="2523960"/>
            <a:chExt cx="4133880" cy="2333880"/>
          </a:xfrm>
        </p:grpSpPr>
        <p:sp>
          <p:nvSpPr>
            <p:cNvPr id="525" name=""/>
            <p:cNvSpPr/>
            <p:nvPr/>
          </p:nvSpPr>
          <p:spPr>
            <a:xfrm>
              <a:off x="6543720" y="2990880"/>
              <a:ext cx="9360" cy="186696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3305160" y="2523960"/>
              <a:ext cx="4133880" cy="426960"/>
              <a:chOff x="3305160" y="2523960"/>
              <a:chExt cx="4133880" cy="426960"/>
            </a:xfrm>
          </p:grpSpPr>
          <p:sp>
            <p:nvSpPr>
              <p:cNvPr id="527" name=""/>
              <p:cNvSpPr/>
              <p:nvPr/>
            </p:nvSpPr>
            <p:spPr>
              <a:xfrm>
                <a:off x="5657760" y="2523960"/>
                <a:ext cx="1781280" cy="42696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 Narrow"/>
                  </a:rPr>
                  <a:t>private branc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305160" y="2666880"/>
                <a:ext cx="2343240" cy="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1440" bIns="-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" name=""/>
          <p:cNvSpPr/>
          <p:nvPr/>
        </p:nvSpPr>
        <p:spPr>
          <a:xfrm>
            <a:off x="2439360" y="5200560"/>
            <a:ext cx="1340640" cy="457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MRG_C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253200" y="3257640"/>
            <a:ext cx="585720" cy="57132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15440" y="3314880"/>
            <a:ext cx="1421280" cy="457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CKPT_C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3220920" y="3774960"/>
            <a:ext cx="3508560" cy="682920"/>
            <a:chOff x="3220920" y="3774960"/>
            <a:chExt cx="3508560" cy="682920"/>
          </a:xfrm>
        </p:grpSpPr>
        <p:grpSp>
          <p:nvGrpSpPr>
            <p:cNvPr id="533" name=""/>
            <p:cNvGrpSpPr/>
            <p:nvPr/>
          </p:nvGrpSpPr>
          <p:grpSpPr>
            <a:xfrm>
              <a:off x="3220920" y="3774960"/>
              <a:ext cx="3183480" cy="512280"/>
              <a:chOff x="3220920" y="3774960"/>
              <a:chExt cx="3183480" cy="512280"/>
            </a:xfrm>
          </p:grpSpPr>
          <p:cxnSp>
            <p:nvCxnSpPr>
              <p:cNvPr id="534" name=""/>
              <p:cNvCxnSpPr>
                <a:stCxn id="523" idx="7"/>
                <a:endCxn id="535" idx="1"/>
              </p:cNvCxnSpPr>
              <p:nvPr/>
            </p:nvCxnSpPr>
            <p:spPr>
              <a:xfrm flipH="1" rot="16200000">
                <a:off x="4783680" y="2491920"/>
                <a:ext cx="57960" cy="3183840"/>
              </a:xfrm>
              <a:prstGeom prst="curvedConnector5">
                <a:avLst>
                  <a:gd name="adj1" fmla="val -463750"/>
                  <a:gd name="adj2" fmla="val 49994"/>
                  <a:gd name="adj3" fmla="val -463750"/>
                </a:avLst>
              </a:prstGeom>
              <a:ln w="38160">
                <a:solidFill>
                  <a:srgbClr val="ff6699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536" name=""/>
              <p:cNvSpPr/>
              <p:nvPr/>
            </p:nvSpPr>
            <p:spPr>
              <a:xfrm>
                <a:off x="3733920" y="3774960"/>
                <a:ext cx="23619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99"/>
                    </a:solidFill>
                    <a:latin typeface="Arial Narrow"/>
                  </a:rPr>
                  <a:t>reba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6348240" y="4076640"/>
              <a:ext cx="381240" cy="38124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“</a:t>
            </a: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Reserved” rebase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7000"/>
          </a:bodyPr>
          <a:p>
            <a:pPr marL="335520" indent="-33552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at if, after I rebase, someone else merges-back while I’m rebuilding &amp; testing? Now I’m no longer up-to-date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5520" indent="-33552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n “reserve” your merge-back just prior to rebas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4240" indent="-26748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cquire an “integration lock” before you re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14240" indent="-26748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base, then retest as quickly as feasi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14240" indent="-26748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w merge back your changes &amp; release the integration loc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520" indent="-33552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oses the window between rebase &amp; merge-bac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4240" indent="-26748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oluntarily “unreserve” the lock if rebase/retest is complex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520" indent="-33552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eer pressure helps minimize the “reservation time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4240" indent="-26748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ff"/>
                </a:solidFill>
                <a:latin typeface="Arial Narrow"/>
              </a:rPr>
              <a:t>Don’t reserve the integration lock for too long or you’ll have an angry mob at your door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Floating label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34640" cy="579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9000"/>
          </a:bodyPr>
          <a:p>
            <a:pPr marL="342360" indent="-3423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w do I “stay aware” of which baselevel is the latest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f builds and baselevels are very frequent, it can be hard to keep track of what’s the latest “good” base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lecting </a:t>
            </a:r>
            <a:r>
              <a:rPr b="0" lang="en-US" sz="2800" spc="-1" strike="noStrike">
                <a:solidFill>
                  <a:srgbClr val="33ccff"/>
                </a:solidFill>
                <a:latin typeface="Arial Narrow"/>
              </a:rPr>
              <a:t>…/branch/LATEST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isn’t stable enough to u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2360" indent="-3423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gree on a name for a “floating label” for the int-branc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reate a baselevel-label with the same name when you want those using the “</a:t>
            </a:r>
            <a:r>
              <a:rPr b="0" lang="en-US" sz="2400" spc="-1" strike="noStrike">
                <a:solidFill>
                  <a:srgbClr val="33ccff"/>
                </a:solidFill>
                <a:latin typeface="Arial Narrow"/>
              </a:rPr>
              <a:t>LAST_GOOD_BUILD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” to refresh their view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y want to do this in addition to (rather than instead of) a unique baselevel-label na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 also be one of the “steps” in a promotion model sche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r’s of dynamic views get the new </a:t>
            </a:r>
            <a:r>
              <a:rPr b="0" lang="en-US" sz="2400" spc="-1" strike="noStrike">
                <a:solidFill>
                  <a:srgbClr val="33ccff"/>
                </a:solidFill>
                <a:latin typeface="Arial Narrow"/>
              </a:rPr>
              <a:t>LAST_GOOD_BUILD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 Narrow"/>
              </a:rPr>
              <a:t>whether they want it or not!</a:t>
            </a:r>
            <a:r>
              <a:rPr b="0" lang="en-US" sz="2800" spc="-1" strike="noStrike">
                <a:solidFill>
                  <a:srgbClr val="33cc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unless they use a “time rule”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Floating label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42" name=""/>
          <p:cNvSpPr/>
          <p:nvPr/>
        </p:nvSpPr>
        <p:spPr>
          <a:xfrm>
            <a:off x="3962520" y="3276720"/>
            <a:ext cx="1390680" cy="1199880"/>
          </a:xfrm>
          <a:custGeom>
            <a:avLst/>
            <a:gdLst>
              <a:gd name="textAreaLeft" fmla="*/ 217080 w 1390680"/>
              <a:gd name="textAreaRight" fmla="*/ 1216800 w 1390680"/>
              <a:gd name="textAreaTop" fmla="*/ 299880 h 1199880"/>
              <a:gd name="textAreaBottom" fmla="*/ 900000 h 1199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28560" y="800280"/>
            <a:ext cx="3124440" cy="4495680"/>
            <a:chOff x="628560" y="800280"/>
            <a:chExt cx="3124440" cy="4495680"/>
          </a:xfrm>
        </p:grpSpPr>
        <p:sp>
          <p:nvSpPr>
            <p:cNvPr id="544" name=""/>
            <p:cNvSpPr/>
            <p:nvPr/>
          </p:nvSpPr>
          <p:spPr>
            <a:xfrm>
              <a:off x="2019240" y="2228760"/>
              <a:ext cx="0" cy="259092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09520" y="1424160"/>
              <a:ext cx="1752840" cy="76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 Narrow"/>
                </a:rPr>
                <a:t>integration bran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33400" y="2610000"/>
              <a:ext cx="543240" cy="57132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BLD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8560" y="800280"/>
              <a:ext cx="312444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6699"/>
                  </a:solidFill>
                  <a:uFillTx/>
                  <a:latin typeface="Arial Narrow"/>
                </a:rPr>
                <a:t>Before New Build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43120" y="4724280"/>
              <a:ext cx="542880" cy="5716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LAST_GOOD_BUI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43120" y="3600360"/>
              <a:ext cx="542880" cy="5716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BLD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5486400" y="800280"/>
            <a:ext cx="3124080" cy="5410080"/>
            <a:chOff x="5486400" y="800280"/>
            <a:chExt cx="3124080" cy="5410080"/>
          </a:xfrm>
        </p:grpSpPr>
        <p:sp>
          <p:nvSpPr>
            <p:cNvPr id="551" name=""/>
            <p:cNvSpPr/>
            <p:nvPr/>
          </p:nvSpPr>
          <p:spPr>
            <a:xfrm>
              <a:off x="6896160" y="2190600"/>
              <a:ext cx="0" cy="350532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67360" y="1424160"/>
              <a:ext cx="1752480" cy="76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 Narrow"/>
                </a:rPr>
                <a:t>integration bran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86400" y="800280"/>
              <a:ext cx="31240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6699"/>
                  </a:solidFill>
                  <a:uFillTx/>
                  <a:latin typeface="Arial Narrow"/>
                </a:rPr>
                <a:t>After New Build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0040" y="2610000"/>
              <a:ext cx="542880" cy="57132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BLD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10320" y="5638680"/>
              <a:ext cx="542880" cy="5716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LAST_GOOD_BUI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10320" y="3600360"/>
              <a:ext cx="542880" cy="5716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BLD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610320" y="4705200"/>
              <a:ext cx="542880" cy="5716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BLD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Pre-build vs post-build label/checkpoint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Pre-build label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(integrate then label then build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andy initial reference to have for later comparis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ut if the build breaks and changes are needed, you have to apply a new-label or “bump up” the existing on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t needed if have already labeled after the last mer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Post-build label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(integrate then build then label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 need to hassle with re-applying before/after labe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ut you lose the handy initial reference if you wanted it (could use an hlink/attr to checkpoint instead!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y not be needed if you have to do trivial copymerges to a mainline before applying the official baseline lab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Simulated “-mklabel” rule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en using “pre-build label”, how can I keep the label up to date without relabeling everything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n simulate a “-mklabel” rule for your cspec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 an hlink/attr to record a “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-mklabel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” target for int-branch (this could even be part of an hlink-based integration lock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ave a post-op ci trigger look for the “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-mklabel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” target and, if found, automatically do a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klabel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on the checked-in vers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utomatically updates an “in progress” base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 Narrow"/>
              </a:rPr>
              <a:t>Don’t forget to remove the “-mklabel” target after the baseline is created and the label is “locked down”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Baseline promotion via label attribute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w do I indicate a progression of  quality (promotion) levels for a baseline without having to relabel the world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e an attribute or hyperlink on the lbtype to record a formal promotion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reate a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PromotionLevel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attribute type with your desired set of promotion levels (e.g.,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ITIAL, BUILT, TESTED, RELEASED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hen the in-progress baseline passes a new quality “gate”, bump up the promotion level to the next one in the seque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riggers can be used to take special actions or precautions based on the promotion level associated with the label-typ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Baseline promotion via label attribute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324000" y="895320"/>
            <a:ext cx="3124080" cy="4819680"/>
            <a:chOff x="324000" y="895320"/>
            <a:chExt cx="3124080" cy="4819680"/>
          </a:xfrm>
        </p:grpSpPr>
        <p:sp>
          <p:nvSpPr>
            <p:cNvPr id="566" name=""/>
            <p:cNvSpPr/>
            <p:nvPr/>
          </p:nvSpPr>
          <p:spPr>
            <a:xfrm>
              <a:off x="1714680" y="2343240"/>
              <a:ext cx="0" cy="281916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04960" y="1519200"/>
              <a:ext cx="1752480" cy="76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 Narrow"/>
                </a:rPr>
                <a:t>integration bran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19200" y="2876400"/>
              <a:ext cx="380880" cy="38124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47920" y="5143680"/>
              <a:ext cx="542880" cy="57132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BLD2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04800" y="3943440"/>
              <a:ext cx="38124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4000" y="895320"/>
              <a:ext cx="31240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6699"/>
                  </a:solidFill>
                  <a:uFillTx/>
                  <a:latin typeface="Arial Narrow"/>
                </a:rPr>
                <a:t>Before Promot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095560" y="4952880"/>
            <a:ext cx="1504800" cy="1006200"/>
            <a:chOff x="2095560" y="4952880"/>
            <a:chExt cx="1504800" cy="1006200"/>
          </a:xfrm>
        </p:grpSpPr>
        <p:sp>
          <p:nvSpPr>
            <p:cNvPr id="573" name=""/>
            <p:cNvSpPr/>
            <p:nvPr/>
          </p:nvSpPr>
          <p:spPr>
            <a:xfrm>
              <a:off x="2133720" y="4952880"/>
              <a:ext cx="1447560" cy="10062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Promotion Level =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BUIL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95560" y="499104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48080" y="50101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181480" y="895320"/>
            <a:ext cx="3276720" cy="5082840"/>
            <a:chOff x="5181480" y="895320"/>
            <a:chExt cx="3276720" cy="5082840"/>
          </a:xfrm>
        </p:grpSpPr>
        <p:grpSp>
          <p:nvGrpSpPr>
            <p:cNvPr id="577" name=""/>
            <p:cNvGrpSpPr/>
            <p:nvPr/>
          </p:nvGrpSpPr>
          <p:grpSpPr>
            <a:xfrm>
              <a:off x="5181480" y="895320"/>
              <a:ext cx="3124440" cy="4819680"/>
              <a:chOff x="5181480" y="895320"/>
              <a:chExt cx="3124440" cy="4819680"/>
            </a:xfrm>
          </p:grpSpPr>
          <p:sp>
            <p:nvSpPr>
              <p:cNvPr id="578" name=""/>
              <p:cNvSpPr/>
              <p:nvPr/>
            </p:nvSpPr>
            <p:spPr>
              <a:xfrm>
                <a:off x="6572160" y="2343240"/>
                <a:ext cx="0" cy="2819160"/>
              </a:xfrm>
              <a:prstGeom prst="line">
                <a:avLst/>
              </a:prstGeom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662440" y="1519200"/>
                <a:ext cx="1752840" cy="7678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00"/>
                    </a:solidFill>
                    <a:latin typeface="Arial Narrow"/>
                  </a:rPr>
                  <a:t>integration branch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377040" y="2876400"/>
                <a:ext cx="380880" cy="38124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305400" y="5143680"/>
                <a:ext cx="543240" cy="57132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 Narrow"/>
                  </a:rPr>
                  <a:t>BLD2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362640" y="3943440"/>
                <a:ext cx="381240" cy="38088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181480" y="895320"/>
                <a:ext cx="3124440" cy="62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ff6699"/>
                    </a:solidFill>
                    <a:uFillTx/>
                    <a:latin typeface="Arial Narrow"/>
                  </a:rPr>
                  <a:t>After Promotion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953400" y="4971960"/>
              <a:ext cx="1504800" cy="1006200"/>
              <a:chOff x="6953400" y="4971960"/>
              <a:chExt cx="1504800" cy="1006200"/>
            </a:xfrm>
          </p:grpSpPr>
          <p:sp>
            <p:nvSpPr>
              <p:cNvPr id="585" name=""/>
              <p:cNvSpPr/>
              <p:nvPr/>
            </p:nvSpPr>
            <p:spPr>
              <a:xfrm>
                <a:off x="6991200" y="4971960"/>
                <a:ext cx="1447920" cy="1006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Promotion Level = </a:t>
                </a:r>
                <a:r>
                  <a:rPr b="1" lang="en-US" sz="2000" spc="-1" strike="noStrike">
                    <a:solidFill>
                      <a:srgbClr val="00cc00"/>
                    </a:solidFill>
                    <a:latin typeface="Arial Narrow"/>
                  </a:rPr>
                  <a:t>TEST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53400" y="4991040"/>
                <a:ext cx="152280" cy="91440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305920" y="5010120"/>
                <a:ext cx="152280" cy="91440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8" name=""/>
          <p:cNvSpPr/>
          <p:nvPr/>
        </p:nvSpPr>
        <p:spPr>
          <a:xfrm>
            <a:off x="3657600" y="3371760"/>
            <a:ext cx="1390680" cy="1200240"/>
          </a:xfrm>
          <a:custGeom>
            <a:avLst/>
            <a:gdLst>
              <a:gd name="textAreaLeft" fmla="*/ 217080 w 1390680"/>
              <a:gd name="textAreaRight" fmla="*/ 1216800 w 1390680"/>
              <a:gd name="textAreaTop" fmla="*/ 299880 h 1200240"/>
              <a:gd name="textAreaBottom" fmla="*/ 900360 h 120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Intended audience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5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s is an intermediate-level presentation - I assume you already have at least some branching experience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You know what a branch is, how to create it and work on i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You know how to merge, and you’ve used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ndmer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You’ve seen branches used for parallel maintenance and development of more than one release at the same ti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r a more introductory-level presentation on branching, please see Doug Fierro’s presentation from RUC’98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Baseline promotion via label renaming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w do I ensure no one tries to base their changes off of an in-progress (unfinished) build/baselevel label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e a different name for in-progress vs final labe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reate the lbtype with a name lik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MP_BLD2.1.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that clearly reflects its transient na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name lbtype to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LD2.1.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when it is ready for “prime time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lso useful when you don’t know the release/build number until the last minute (start with an internal name, rename to the official release/build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D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at the end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Anyone (mis)using the “in progress” label should quickly notice something is different in their view configuration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Baseline promotion via label renaming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609480" y="895320"/>
            <a:ext cx="3124440" cy="4819680"/>
            <a:chOff x="609480" y="895320"/>
            <a:chExt cx="3124440" cy="4819680"/>
          </a:xfrm>
        </p:grpSpPr>
        <p:sp>
          <p:nvSpPr>
            <p:cNvPr id="593" name=""/>
            <p:cNvSpPr/>
            <p:nvPr/>
          </p:nvSpPr>
          <p:spPr>
            <a:xfrm>
              <a:off x="2000160" y="2343240"/>
              <a:ext cx="0" cy="281916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090440" y="1519200"/>
              <a:ext cx="1752840" cy="76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 Narrow"/>
                </a:rPr>
                <a:t>integration bran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05040" y="2876400"/>
              <a:ext cx="380880" cy="38124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33400" y="5143680"/>
              <a:ext cx="543240" cy="57132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TMP_BLD 2.1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90640" y="3943440"/>
              <a:ext cx="38124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09480" y="895320"/>
              <a:ext cx="312444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6699"/>
                  </a:solidFill>
                  <a:uFillTx/>
                  <a:latin typeface="Arial Narrow"/>
                </a:rPr>
                <a:t>Before Promot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5467320" y="895320"/>
            <a:ext cx="3124080" cy="4819680"/>
            <a:chOff x="5467320" y="895320"/>
            <a:chExt cx="3124080" cy="4819680"/>
          </a:xfrm>
        </p:grpSpPr>
        <p:sp>
          <p:nvSpPr>
            <p:cNvPr id="600" name=""/>
            <p:cNvSpPr/>
            <p:nvPr/>
          </p:nvSpPr>
          <p:spPr>
            <a:xfrm>
              <a:off x="6857640" y="2343240"/>
              <a:ext cx="0" cy="281916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47920" y="1519200"/>
              <a:ext cx="1752480" cy="76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 Narrow"/>
                </a:rPr>
                <a:t>integration bran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62520" y="2876400"/>
              <a:ext cx="380520" cy="38124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90880" y="5143680"/>
              <a:ext cx="542880" cy="57132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BLD 2.1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48120" y="3943440"/>
              <a:ext cx="380880" cy="38088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67320" y="895320"/>
              <a:ext cx="31240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6699"/>
                  </a:solidFill>
                  <a:uFillTx/>
                  <a:latin typeface="Arial Narrow"/>
                </a:rPr>
                <a:t>After Promot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943440" y="3371760"/>
            <a:ext cx="1390680" cy="1200240"/>
          </a:xfrm>
          <a:custGeom>
            <a:avLst/>
            <a:gdLst>
              <a:gd name="textAreaLeft" fmla="*/ 217080 w 1390680"/>
              <a:gd name="textAreaRight" fmla="*/ 1216800 w 1390680"/>
              <a:gd name="textAreaTop" fmla="*/ 299880 h 1200240"/>
              <a:gd name="textAreaBottom" fmla="*/ 900360 h 120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Narrow"/>
              </a:rPr>
              <a:t>ClearCase branching and labeling</a:t>
            </a:r>
            <a:endParaRPr b="1" lang="en-US" sz="4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544320" y="3690720"/>
            <a:ext cx="82962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indent="0" algn="r">
              <a:lnSpc>
                <a:spcPct val="87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Narrow"/>
              </a:rPr>
              <a:t>Using the “best practices”</a:t>
            </a:r>
            <a:endParaRPr b="0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Determine your risk tolerance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97000"/>
              </a:lnSpc>
              <a:spcBef>
                <a:spcPts val="13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Which risk factors apply to your environment?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97000"/>
              </a:lnSpc>
              <a:spcBef>
                <a:spcPts val="13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Trade-off in favor of safety or liveness?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97000"/>
              </a:lnSpc>
              <a:spcBef>
                <a:spcPts val="13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How critical is the impact of an “unwanted” change that “breaks” the build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97000"/>
              </a:lnSpc>
              <a:spcBef>
                <a:spcPts val="13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How much time and overhead to back out a change?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97000"/>
              </a:lnSpc>
              <a:spcBef>
                <a:spcPts val="134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How much can you trust your developers?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Select an appropriate branching style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arly or lazy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 early branching when you have larger teams with multiple frequent parallel releases at o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 lazy branching when you have smaller teams that usually have at most one development release and a few maintenance-only lines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8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n use both at once for medium-large project team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arly branching at the top to isolate major changes earl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azy branching at the lower levels to keep the vtree from getting to wide and unwieldy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Select an appropriate merging style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63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7000"/>
          </a:bodyPr>
          <a:p>
            <a:pPr marL="335520" indent="-33552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veloper-push or Integrator-pull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4240" indent="-26748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 developer-push with less than a dozen or so developers per integration branch and the developers know how to do the mer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14240" indent="-26748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 integrator-pull when the branch must be highly stable, or highly volatile and accommodates more than a dozen or so develop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5520" indent="-33552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n use both at once for medium-large project team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4240" indent="-267480">
              <a:lnSpc>
                <a:spcPct val="9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grator-pull at top-branches to isolate for safety at broader scope and impac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14240" indent="-267480">
              <a:lnSpc>
                <a:spcPct val="9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veloper-push at the lower-levels to promote liveness and visible communic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Select an appropriate labeling style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5000"/>
          </a:bodyPr>
          <a:p>
            <a:pPr marL="328320" indent="-32832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-build labeling or post-build labeling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99480" indent="-26208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 pre-build labeling when you usually have very little tweaking to do after a build, and need to know what you started with as much as what you end up wit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99480" indent="-26208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 post-build labeling when you typically have to modify files after the build, or already know what you started wit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8320" indent="-32832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abel-promotion via attributes or renaming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99480" indent="-262080">
              <a:lnSpc>
                <a:spcPct val="9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 attributes when you need &gt;2 formal promotion leve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99480" indent="-262080">
              <a:lnSpc>
                <a:spcPct val="9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 renaming when you only need ~2 formal promotion levels (the rest can be informal if needed)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99480" indent="-262080">
              <a:lnSpc>
                <a:spcPct val="9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 use both to get desired number of levels while ensuring no one relies upon build-labels of questionable st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General advice and recurring themes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6000"/>
          </a:bodyPr>
          <a:p>
            <a:pPr marL="331920" indent="-331920">
              <a:lnSpc>
                <a:spcPct val="77000"/>
              </a:lnSpc>
              <a:spcBef>
                <a:spcPts val="15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e meaningful nam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1920" indent="-331920">
              <a:lnSpc>
                <a:spcPct val="77000"/>
              </a:lnSpc>
              <a:spcBef>
                <a:spcPts val="15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fer branching to freez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1920" indent="-331920">
              <a:lnSpc>
                <a:spcPct val="77000"/>
              </a:lnSpc>
              <a:spcBef>
                <a:spcPts val="15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capsulate change - isolate the thing that vari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1920" indent="-331920">
              <a:lnSpc>
                <a:spcPct val="77000"/>
              </a:lnSpc>
              <a:spcBef>
                <a:spcPts val="15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municate stability - integrate/build/baseline early &amp; regularl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1920" indent="-331920">
              <a:lnSpc>
                <a:spcPct val="77000"/>
              </a:lnSpc>
              <a:spcBef>
                <a:spcPts val="15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ranch on incompatibil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1920" indent="-331920">
              <a:lnSpc>
                <a:spcPct val="77000"/>
              </a:lnSpc>
              <a:spcBef>
                <a:spcPts val="15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dd a level of indirection by adding a “line” of integr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1920" indent="-331920">
              <a:lnSpc>
                <a:spcPct val="77000"/>
              </a:lnSpc>
              <a:spcBef>
                <a:spcPts val="15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KISS (keep it simple stupid!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1920" indent="-331920">
              <a:lnSpc>
                <a:spcPct val="77000"/>
              </a:lnSpc>
              <a:spcBef>
                <a:spcPts val="15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serve integrity /consistenc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1920" indent="-331920">
              <a:lnSpc>
                <a:spcPct val="77000"/>
              </a:lnSpc>
              <a:spcBef>
                <a:spcPts val="15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solate </a:t>
            </a:r>
            <a:r>
              <a:rPr b="1" i="1" lang="en-US" sz="3200" spc="-1" strike="noStrike">
                <a:solidFill>
                  <a:srgbClr val="33ccff"/>
                </a:solidFill>
                <a:latin typeface="Arial Narrow"/>
              </a:rPr>
              <a:t>work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, not people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Support for the Best Practices in UCM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9000"/>
          </a:bodyPr>
          <a:p>
            <a:pPr marL="342360" indent="-3423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mplemented directly in UC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ivate branch,Push integration [remote-pull only], Partial integration lock, Rebase before merge-back, Baseline promotion via attribu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2360" indent="-3423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pported (but not directly implemented) by UC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hared branches, Integration lock, Merge-set checkpoint, Change-set checkpoint, Early/Lazy branching, Pre/Post build baselin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2360" indent="-3423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t Supported by UCM (but manual workarounds exis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9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ocal pull integration, Reserved rebase, Floating label, Pull-push branch, Push-pull branch, Simulated mklabel (but see incremental baselines), Baseline promotion via renam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 Narrow"/>
              </a:rPr>
              <a:t>Questions?</a:t>
            </a:r>
            <a:endParaRPr b="1" lang="en-US" sz="60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5760" y="2971800"/>
            <a:ext cx="829476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Narrow"/>
              </a:rPr>
              <a:t>ClearCase branching and labeling</a:t>
            </a:r>
            <a:endParaRPr b="1" lang="en-US" sz="4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44320" y="3690720"/>
            <a:ext cx="82962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08000" rIns="108000" tIns="54000" bIns="54000" anchor="t">
            <a:noAutofit/>
          </a:bodyPr>
          <a:p>
            <a:pPr indent="0" algn="r">
              <a:lnSpc>
                <a:spcPct val="87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Narrow"/>
              </a:rPr>
              <a:t>Concepts and issues</a:t>
            </a:r>
            <a:endParaRPr b="0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7760" y="380880"/>
            <a:ext cx="601956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Brad Appleton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Motorola Network Solutions</a:t>
            </a:r>
            <a:br>
              <a:rPr sz="2400"/>
            </a:br>
            <a:r>
              <a:rPr b="1" i="1" lang="en-US" sz="2400" spc="-1" strike="noStrike">
                <a:solidFill>
                  <a:srgbClr val="ffcc00"/>
                </a:solidFill>
                <a:latin typeface="Arial Narrow"/>
              </a:rPr>
              <a:t>&lt;bradapp@enteract.com&gt;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earn more about my ACME project at 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http://www.enteract.com/~bradapp/acme</a:t>
            </a:r>
            <a:br>
              <a:rPr sz="2400"/>
            </a:br>
            <a:endParaRPr b="1" lang="en-US" sz="2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23" name=""/>
          <p:cNvSpPr/>
          <p:nvPr/>
        </p:nvSpPr>
        <p:spPr>
          <a:xfrm>
            <a:off x="685800" y="2971800"/>
            <a:ext cx="76960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Arial Narrow"/>
              </a:rPr>
              <a:t>Thank You!</a:t>
            </a:r>
            <a:br>
              <a:rPr sz="6200"/>
            </a:b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4400" y="4343400"/>
            <a:ext cx="7543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is presentation will be posted by tomorrow to  http://www.rational.com/ru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Project-oriented vs file-oriented branching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88000"/>
          </a:bodyPr>
          <a:p>
            <a:pPr marL="244440" indent="0">
              <a:lnSpc>
                <a:spcPct val="7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File-oriented branching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(low-level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48000" indent="-2426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ranches are organized &amp; viewed in the context of a single file and its version tree (vtree) for that one fi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48000" indent="-2426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cuses primarily on physical modifications to individual fil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44440" indent="0">
              <a:lnSpc>
                <a:spcPct val="7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Project-oriented branching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(high-level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48000" indent="-2426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ranches are organized &amp; viewed in the context of a project (or product) and its version tree (vtree) for the whole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48000" indent="-2426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cuses primarily on the flow of logical changes/activities to entire components and (sub)system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44440" indent="0">
              <a:lnSpc>
                <a:spcPct val="7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Arial Narrow"/>
              </a:rPr>
              <a:t>Project-oriented branching is more conceptually powerfu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48000" indent="-2426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ject-wide vtree depicts the evolution of the whole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48000" indent="-24264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etter conceptual fit for how we try to plan, manage &amp; track projects and workflow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Dimensions of branching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9000"/>
          </a:bodyPr>
          <a:p>
            <a:pPr marL="342360" indent="0">
              <a:lnSpc>
                <a:spcPct val="7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main uses of branches can be categorized as follow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Physical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- branching for components and subsystem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Functional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- branching for patches, releases, fixes, features &amp; enhance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Environmental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- branching different build &amp; runtime platforms: platform, OS, tools, GUI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 Narrow"/>
              </a:rPr>
              <a:t>[often undesirable!]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Organizational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- branching for work activities &amp; projects, roles, and team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9000" indent="-273240">
              <a:lnSpc>
                <a:spcPct val="8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Procedural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- branching for work behaviors to support policies, processes, and stat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2360" indent="0">
              <a:lnSpc>
                <a:spcPct val="7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These are </a:t>
            </a:r>
            <a:r>
              <a:rPr b="0" i="1" lang="en-US" sz="32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 mutually exclusive! (e.g., a bugfix-task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Branching risks and competing forces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 fontScale="96000"/>
          </a:bodyPr>
          <a:p>
            <a:pPr marL="331920" indent="-33192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eamwor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07040" indent="-26496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munication, visibility, roles &amp; responsibilities, workflow organiz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1920" indent="-33192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usability (of change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07040" indent="-26496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seline reproducibility, change separability &amp; trace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1920" indent="-33192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afe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07040" indent="-26496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seline consistency, reliability, integrity &amp; st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07040" indent="-26496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void lost changes &amp; reappearing bug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1920" indent="-33192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ivene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07040" indent="-26496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creased productivity, coordination &amp; conten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07040" indent="-26496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erge complexity, build-time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07040" indent="0">
              <a:lnSpc>
                <a:spcPct val="7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75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17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Tool support issues for branching &amp; baselining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34640" cy="53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228600" rIns="228600" tIns="228600" bIns="228600" anchor="t">
            <a:normAutofit/>
          </a:bodyPr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ranching suppor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eaningful names &amp; hierarchical struc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erging suppor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erge ancestry &amp; graphical, multi-way merge assist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abeling support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abeling performance, label renam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ogical change-group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560" indent="-276120">
              <a:lnSpc>
                <a:spcPct val="77000"/>
              </a:lnSpc>
              <a:spcBef>
                <a:spcPts val="10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hange “sets” and “transactions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rived object reu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5960" indent="-345960">
              <a:lnSpc>
                <a:spcPct val="77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tensibility (hooks &amp; triggers &amp; UI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7:59:23Z</dcterms:created>
  <dc:creator>Rational Software</dc:creator>
  <dc:description/>
  <dc:language>en-US</dc:language>
  <cp:lastModifiedBy>Brad Appleton</cp:lastModifiedBy>
  <cp:lastPrinted>2000-02-25T18:27:11Z</cp:lastPrinted>
  <dcterms:modified xsi:type="dcterms:W3CDTF">2000-08-21T17:57:34Z</dcterms:modified>
  <cp:revision>114</cp:revision>
  <dc:subject/>
  <dc:title>Questions?</dc:title>
</cp:coreProperties>
</file>